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9.jpeg" ContentType="image/jpeg"/>
  <Override PartName="/ppt/media/image5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987A-3983-455F-AD7C-1A10392A9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D595-278A-435A-BCC7-EDF47151C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1F7E-D295-4481-BB04-17E3C3524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6C64-688B-4AD6-94F5-5112CD211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1C1B0-735A-447A-A431-09F66E35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29109-8492-436A-9FE1-9FFC902E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13E0B-72AC-4F6D-AD3F-72626C51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22E2A-0D8E-4BC1-A047-A678C3F6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8016A-ECBB-4574-9845-0AE8A270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6106C-6662-4BCB-B9B5-1474FC20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331F7-036B-481A-9B88-12F070FE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3B05-B2F9-43E1-8385-C9A0FE086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E5FB0-BE79-4B64-A461-923F5125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F49EA-86D3-4990-AFFE-23F7B377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1798E-6F90-41B5-AF3C-108104B9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53CA2-58DA-42FE-A32A-727593AD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7944B-8D27-47DB-AF07-CC860EBE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020DF0-75D3-465F-B386-48FDF9C4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4846FE-FD5A-498A-A596-7EAA6F06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B0AB62-FEBB-4F97-8D74-392B4016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C101B0-C49F-420B-991E-BD5EAEEF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24CAB5-8F64-4A2C-81A4-2DC69105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97E5-639C-4D75-8A63-B0641C256B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90AF97-7624-4CD4-A64F-F664F481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C18387-89B7-4743-8311-6CE37C99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D78BFC-F881-4D1B-B2E1-C4B40387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DF3EC2-2A14-4EF6-A099-873BE260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30F56E-8193-4A60-AD2B-51679543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03D17-9756-4C67-8237-C3D25BCD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02E2D4-9415-434B-8509-414A4B46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107BC-D69A-4E6D-99B2-4A0BB071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34B0F3-EB9C-40BB-B133-3CB5A9BF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D7CAC5-C7DF-42CD-92A5-63DCD98C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4EF0-1E36-4F96-9286-F9508ABEDB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EE42F-D200-4A09-9DF2-26C6445B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BDDD2F-123C-4AF6-8F9A-01B4E95C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2078D9-8968-4E2A-B78C-A97C277B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549D03-3309-479C-AA13-52B55E56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819E71-15D6-45F6-9B0F-FCC5B7BA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65CD5A-B841-4D64-855E-AAB42004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6A04DC-D546-4142-8349-8C528BF6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16388-0081-4A92-B297-C37765B7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D201F0-B6E2-4E18-89BB-5DAFD8D1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0A3D-1698-4079-98E2-6AF94DF71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B564-27AD-43E0-9CC8-B50DD266B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3E70-EA93-4291-B084-E73E10E71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8080-B7FC-4F75-9023-11B9A017B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7111-D182-4A87-956F-DD711EBFA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8915400" cy="9907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56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763120" y="6327720"/>
            <a:ext cx="60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gradFill rotWithShape="0">
            <a:gsLst>
              <a:gs pos="0">
                <a:srgbClr val="004776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Oval 6"/>
          <p:cNvSpPr/>
          <p:nvPr/>
        </p:nvSpPr>
        <p:spPr>
          <a:xfrm>
            <a:off x="7543800" y="990720"/>
            <a:ext cx="990720" cy="99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791320" y="1523880"/>
            <a:ext cx="274320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Oval 8"/>
          <p:cNvSpPr/>
          <p:nvPr/>
        </p:nvSpPr>
        <p:spPr>
          <a:xfrm>
            <a:off x="7867800" y="6480000"/>
            <a:ext cx="438120" cy="4572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FC32-FFC2-4095-994B-7612E01D9C44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" name="Picture 17" descr="WIN EUROPE"/>
          <p:cNvPicPr/>
          <p:nvPr/>
        </p:nvPicPr>
        <p:blipFill>
          <a:blip r:embed="rId2"/>
          <a:stretch/>
        </p:blipFill>
        <p:spPr>
          <a:xfrm>
            <a:off x="7812000" y="115920"/>
            <a:ext cx="1079640" cy="7398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39" descr="SFEN"/>
          <p:cNvPicPr/>
          <p:nvPr/>
        </p:nvPicPr>
        <p:blipFill>
          <a:blip r:embed="rId3"/>
          <a:stretch/>
        </p:blipFill>
        <p:spPr>
          <a:xfrm>
            <a:off x="0" y="6067440"/>
            <a:ext cx="781200" cy="7905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C022-8608-41FC-A6CA-A8193A842929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9B65-E6EC-4509-A395-3634ACB8A2A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E624-C162-4D49-8021-4F4500927DE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7A74-EA0B-478B-ACCC-B36448E4F85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23A7-D261-4D2A-B79D-C5C3621EF47A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9AEF-3DD7-4BA6-AE36-7C1AB27E9AE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hyperlink" Target="http://www.euronuclear.org/events/pime/pime2012/index.htm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3D9A-7422-47F6-9FB9-1EF1C2585A26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270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iN France </a:t>
            </a:r>
            <a:endParaRPr b="0" lang="en-US" sz="36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EDUCATIONAL TOOLS PROJECT</a:t>
            </a:r>
            <a:endParaRPr b="0" lang="en-US" sz="48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                                    </a:t>
            </a:r>
            <a:endParaRPr b="0" lang="en-US" sz="18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  <a:ea typeface="Arial"/>
              </a:rPr>
              <a:t>Annie Wallet , WIN-France Vice President &amp;</a:t>
            </a:r>
            <a:endParaRPr b="0" lang="en-US" sz="1600" spc="-1" strike="noStrike">
              <a:solidFill>
                <a:srgbClr val="000099"/>
              </a:solidFill>
              <a:latin typeface="Century Gothic"/>
            </a:endParaRPr>
          </a:p>
          <a:p>
            <a:pPr marL="2775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  <a:ea typeface="Arial"/>
              </a:rPr>
              <a:t>WIN-lIe-de-France President</a:t>
            </a:r>
            <a:endParaRPr b="0" lang="en-US" sz="16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171" name="Object 40"/>
          <p:cNvGraphicFramePr/>
          <p:nvPr/>
        </p:nvGraphicFramePr>
        <p:xfrm>
          <a:off x="0" y="0"/>
          <a:ext cx="226836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Picture 1035" descr="PIME 20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4076640"/>
            <a:ext cx="42735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D3A7-FB0C-424C-8074-E22E230FE86D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700000" y="22320"/>
            <a:ext cx="486108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Job information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im: to give advice in helping young people (especially young girls) to get information on jobs and related studies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447840" indent="-33336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99"/>
                </a:solidFill>
                <a:uFillTx/>
                <a:latin typeface="Century Gothic"/>
              </a:rPr>
              <a:t>Testimony</a:t>
            </a:r>
            <a:r>
              <a:rPr b="1" lang="en-GB" sz="2000" spc="-1" strike="noStrike">
                <a:solidFill>
                  <a:srgbClr val="000099"/>
                </a:solidFill>
                <a:latin typeface="Century Gothic"/>
              </a:rPr>
              <a:t>: WiN members volunteers testify on their careers, implication, available on paper and website 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447840" indent="-33336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99"/>
                </a:solidFill>
                <a:uFillTx/>
                <a:latin typeface="Century Gothic"/>
              </a:rPr>
              <a:t>Job description</a:t>
            </a:r>
            <a:r>
              <a:rPr b="1" lang="en-GB" sz="2000" spc="-1" strike="noStrike">
                <a:solidFill>
                  <a:srgbClr val="000099"/>
                </a:solidFill>
                <a:latin typeface="Century Gothic"/>
              </a:rPr>
              <a:t>: missions, studies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235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Image 6" descr=""/>
          <p:cNvPicPr/>
          <p:nvPr/>
        </p:nvPicPr>
        <p:blipFill>
          <a:blip r:embed="rId3"/>
          <a:stretch/>
        </p:blipFill>
        <p:spPr>
          <a:xfrm>
            <a:off x="5148360" y="2997360"/>
            <a:ext cx="3249360" cy="2001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"/>
          <p:cNvPicPr/>
          <p:nvPr/>
        </p:nvPicPr>
        <p:blipFill>
          <a:blip r:embed="rId4"/>
          <a:stretch/>
        </p:blipFill>
        <p:spPr>
          <a:xfrm>
            <a:off x="1763640" y="3141720"/>
            <a:ext cx="2698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1476-6BF4-4CF0-B071-02F76787AF91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48610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o know more about nuclea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14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Where, and how to find relevant information 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on the two first domains by :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1314360" indent="-514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Century Gothic"/>
              </a:rPr>
              <a:t>Leaflet “to know more about  nuclear”: </a:t>
            </a:r>
            <a:r>
              <a:rPr b="1" lang="en-GB" sz="2000" spc="-1" strike="noStrike">
                <a:solidFill>
                  <a:srgbClr val="000099"/>
                </a:solidFill>
                <a:latin typeface="Century Gothic"/>
              </a:rPr>
              <a:t>Recommended links to website, books, .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242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4" name="Picture 3" descr=""/>
          <p:cNvPicPr/>
          <p:nvPr/>
        </p:nvPicPr>
        <p:blipFill>
          <a:blip r:embed="rId3"/>
          <a:stretch/>
        </p:blipFill>
        <p:spPr>
          <a:xfrm>
            <a:off x="3851280" y="3141720"/>
            <a:ext cx="4119480" cy="28083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45" name="Picture 4" descr=""/>
          <p:cNvPicPr/>
          <p:nvPr/>
        </p:nvPicPr>
        <p:blipFill>
          <a:blip r:embed="rId4"/>
          <a:stretch/>
        </p:blipFill>
        <p:spPr>
          <a:xfrm>
            <a:off x="1763640" y="3141720"/>
            <a:ext cx="1952640" cy="28083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0F0C-5838-4ECB-BCDE-803076703DE2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48610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um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Picture 1032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2637000" cy="1976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33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143080" cy="241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4" descr="Copie de P1030897"/>
          <p:cNvPicPr/>
          <p:nvPr/>
        </p:nvPicPr>
        <p:blipFill>
          <a:blip r:embed="rId3"/>
          <a:stretch/>
        </p:blipFill>
        <p:spPr>
          <a:xfrm>
            <a:off x="6443640" y="3598920"/>
            <a:ext cx="1820880" cy="1222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35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2636640" cy="1976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37" descr=""/>
          <p:cNvPicPr/>
          <p:nvPr/>
        </p:nvPicPr>
        <p:blipFill>
          <a:blip r:embed="rId5"/>
          <a:stretch/>
        </p:blipFill>
        <p:spPr>
          <a:xfrm>
            <a:off x="6084720" y="1197000"/>
            <a:ext cx="2276640" cy="17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4" name="Object 4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5" name="Image 15" descr="DSC00726.JPG"/>
          <p:cNvPicPr/>
          <p:nvPr/>
        </p:nvPicPr>
        <p:blipFill>
          <a:blip r:embed="rId8"/>
          <a:stretch/>
        </p:blipFill>
        <p:spPr>
          <a:xfrm>
            <a:off x="3427560" y="4292640"/>
            <a:ext cx="26654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1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AAF5-7342-464E-9925-DDF718840517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39640" y="1227240"/>
            <a:ext cx="77724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Thanks to have selected WiN France project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-25380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What ever will be the result, we were very happy to have the opportunity to present our project 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-25380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We would like to shear our tools with any of you who might be interest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-253800">
              <a:lnSpc>
                <a:spcPct val="15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Come and visit our booth!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Thanks for your attention</a:t>
            </a: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Make the right choice!</a:t>
            </a: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entury Gothic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entury Gothic"/>
              </a:rPr>
              <a:t>Ma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258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AutoShape 1029"/>
          <p:cNvSpPr/>
          <p:nvPr/>
        </p:nvSpPr>
        <p:spPr>
          <a:xfrm>
            <a:off x="2411280" y="0"/>
            <a:ext cx="532944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2035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1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DBD5-CC64-411F-A775-B89884C5A48C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needs</a:t>
            </a: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ducational tools project </a:t>
            </a: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different tools </a:t>
            </a: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176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1029"/>
          <p:cNvSpPr/>
          <p:nvPr/>
        </p:nvSpPr>
        <p:spPr>
          <a:xfrm>
            <a:off x="2411280" y="0"/>
            <a:ext cx="532944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 Franc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CATIONAL TOOLS PRO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DDB9-B1AA-49A1-A65C-67D0EFB97D24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Since 2005  WIN France decided to focus on 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en-GB" sz="2000" spc="-1" strike="noStrike">
                <a:solidFill>
                  <a:srgbClr val="000099"/>
                </a:solidFill>
                <a:latin typeface="Century Gothic"/>
              </a:rPr>
              <a:t>ommunicating about nuclear jobs and careers with young people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WIN Ile de France volunteer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nbers are professionals working in the nuclear sector (research and industry, medicine or energy generation)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WIN Ile de France</a:t>
            </a: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has a booth in several forums for high schools or participate on job days within schools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WIN Ile de France volunteers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meet young people, their teachers and parents in order to motivate young girls and their parents toward  scientific career patterns 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rom this experiences, skepticism toward sciences and the nuclear industry, the need of a comprehensive set of educational tools has appeared 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181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2053"/>
          <p:cNvSpPr/>
          <p:nvPr/>
        </p:nvSpPr>
        <p:spPr>
          <a:xfrm>
            <a:off x="2771640" y="0"/>
            <a:ext cx="4861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AB8D-E25E-49EE-AFFB-52BB06B1259D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48610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ducational tools projec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WIN Ile de France volunteers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 first started by identifying what were the most popular questions asked and information searched for  by young people we met.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This was done collectively under the control of one project leader , </a:t>
            </a:r>
            <a:r>
              <a:rPr b="1" lang="en-GB" sz="2000" spc="-1" strike="noStrike">
                <a:solidFill>
                  <a:srgbClr val="004d99"/>
                </a:solidFill>
                <a:latin typeface="Arial"/>
                <a:ea typeface="Arial"/>
              </a:rPr>
              <a:t>Emmanuelle Gaillard Lecanu 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questions address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three topics 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Scientific and Technical questions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Studies and related jobs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Sources of information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With the support of WiN France and of SFEN (the French Nuclear Society), we started a comprehensive project. 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Initiated at a local level in Ile de France, it became a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national WiN France project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187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C90A-FD6F-4BEF-9565-3489CB9D7EB8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48610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ientific and Technical question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We worked on the selection of a set of questions, the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wording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was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validated by teenagers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Questions addressed: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9144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What is radioactivity?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9144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ts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pplications in everyday life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9144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he link between radiation and nuclear professions: the risk to employees, how to protect themselves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9144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he fears expressed (risks, waste, lack of information,…) 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2" marL="9144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uclear and renewable energies (low carbon energies)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We wrote answers to those questions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We checked that the wording was 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Arial"/>
              </a:rPr>
              <a:t>accessible for teenagers ,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Questions and answers were validated by WiN France board members and SFEN communication :Francis Sorin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192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6A67-1AA1-498F-8BE8-92F4571DAA9D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48610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me card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2560" y="1567800"/>
            <a:ext cx="610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general questions (4 cards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Pin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radioactivity (5 card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d78b"/>
                </a:solidFill>
                <a:latin typeface="Arial"/>
              </a:rPr>
              <a:t>Green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energy (4 card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Orang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radioprotection (3 card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lue: applications of radioactivity (6 card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Violet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the risks and fears (11 cards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5149080" y="4723560"/>
            <a:ext cx="2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21" descr=""/>
          <p:cNvPicPr/>
          <p:nvPr/>
        </p:nvPicPr>
        <p:blipFill>
          <a:blip r:embed="rId1"/>
          <a:stretch/>
        </p:blipFill>
        <p:spPr>
          <a:xfrm>
            <a:off x="6156360" y="3325680"/>
            <a:ext cx="1500120" cy="22068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99" name="Picture 22" descr=""/>
          <p:cNvPicPr/>
          <p:nvPr/>
        </p:nvPicPr>
        <p:blipFill>
          <a:blip r:embed="rId2"/>
          <a:stretch/>
        </p:blipFill>
        <p:spPr>
          <a:xfrm>
            <a:off x="6905520" y="1198440"/>
            <a:ext cx="1384560" cy="20163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0" name="Picture 23" descr=""/>
          <p:cNvPicPr/>
          <p:nvPr/>
        </p:nvPicPr>
        <p:blipFill>
          <a:blip r:embed="rId3"/>
          <a:stretch/>
        </p:blipFill>
        <p:spPr>
          <a:xfrm>
            <a:off x="4500720" y="4292640"/>
            <a:ext cx="1511280" cy="222264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1" name="Picture 24" descr=""/>
          <p:cNvPicPr/>
          <p:nvPr/>
        </p:nvPicPr>
        <p:blipFill>
          <a:blip r:embed="rId4"/>
          <a:stretch/>
        </p:blipFill>
        <p:spPr>
          <a:xfrm>
            <a:off x="2700360" y="4641840"/>
            <a:ext cx="1465200" cy="214632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graphicFrame>
        <p:nvGraphicFramePr>
          <p:cNvPr id="202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4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0AC5-214C-4B33-A1B8-036AA70A06F9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48610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 Poster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06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Oval 8"/>
          <p:cNvSpPr/>
          <p:nvPr/>
        </p:nvSpPr>
        <p:spPr>
          <a:xfrm>
            <a:off x="6192720" y="2201760"/>
            <a:ext cx="2340000" cy="86544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dioactivity might be natural 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3"/>
          <a:stretch/>
        </p:blipFill>
        <p:spPr>
          <a:xfrm>
            <a:off x="3132000" y="2276640"/>
            <a:ext cx="2799000" cy="424944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10" name="Line 6"/>
          <p:cNvSpPr/>
          <p:nvPr/>
        </p:nvSpPr>
        <p:spPr>
          <a:xfrm flipH="1">
            <a:off x="5867280" y="2852640"/>
            <a:ext cx="503280" cy="1447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9"/>
          <p:cNvSpPr/>
          <p:nvPr/>
        </p:nvSpPr>
        <p:spPr>
          <a:xfrm flipH="1" flipV="1">
            <a:off x="5651640" y="4869000"/>
            <a:ext cx="574560" cy="217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2411280" y="5373720"/>
            <a:ext cx="792360" cy="647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395280" y="5084640"/>
            <a:ext cx="2160720" cy="1008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cience,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 path of pas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5"/>
          <p:cNvSpPr/>
          <p:nvPr/>
        </p:nvSpPr>
        <p:spPr>
          <a:xfrm flipV="1">
            <a:off x="2700360" y="2636640"/>
            <a:ext cx="576360" cy="4330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13"/>
          <p:cNvSpPr/>
          <p:nvPr/>
        </p:nvSpPr>
        <p:spPr>
          <a:xfrm>
            <a:off x="6084720" y="4508640"/>
            <a:ext cx="2303640" cy="12967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 example: your body contains radioactiv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11040" y="141444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Aim: to deliver positive messages</a:t>
            </a:r>
            <a:endParaRPr b="0" lang="en-US" sz="2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755640" y="2708280"/>
            <a:ext cx="2052720" cy="79200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 You know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numéro de diapositive 4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20C9-ADFE-46BF-8FFF-7357A4293F4B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486108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3 other poster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0" name="Picture 10" descr=""/>
          <p:cNvPicPr/>
          <p:nvPr/>
        </p:nvPicPr>
        <p:blipFill>
          <a:blip r:embed="rId1"/>
          <a:stretch/>
        </p:blipFill>
        <p:spPr>
          <a:xfrm>
            <a:off x="0" y="1413000"/>
            <a:ext cx="2637000" cy="410364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21" name="Picture 11" descr=""/>
          <p:cNvPicPr/>
          <p:nvPr/>
        </p:nvPicPr>
        <p:blipFill>
          <a:blip r:embed="rId2"/>
          <a:stretch/>
        </p:blipFill>
        <p:spPr>
          <a:xfrm>
            <a:off x="5796000" y="2133720"/>
            <a:ext cx="2706480" cy="42480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22" name="Picture 12" descr=""/>
          <p:cNvPicPr/>
          <p:nvPr/>
        </p:nvPicPr>
        <p:blipFill>
          <a:blip r:embed="rId3"/>
          <a:stretch/>
        </p:blipFill>
        <p:spPr>
          <a:xfrm>
            <a:off x="2951280" y="1930320"/>
            <a:ext cx="2592360" cy="41022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graphicFrame>
        <p:nvGraphicFramePr>
          <p:cNvPr id="223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Object 4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1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7B10-7273-4CF5-A6F6-A160F6482BCD}" type="slidenum">
              <a:rPr b="1" lang="fr-FR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9185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Starting from the game cards content quizz has been created (WiN France website)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Interactive display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Flexibility in order to add new questions and answers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Possibility of actualisization of the questions and answers</a:t>
            </a:r>
            <a:endParaRPr b="0" lang="en-US" sz="2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771640" y="0"/>
            <a:ext cx="4861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more recent developmen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quiz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8" name="Object 40"/>
          <p:cNvGraphicFramePr/>
          <p:nvPr/>
        </p:nvGraphicFramePr>
        <p:xfrm>
          <a:off x="0" y="0"/>
          <a:ext cx="22683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683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Picture 8" descr=""/>
          <p:cNvPicPr/>
          <p:nvPr/>
        </p:nvPicPr>
        <p:blipFill>
          <a:blip r:embed="rId3"/>
          <a:stretch/>
        </p:blipFill>
        <p:spPr>
          <a:xfrm>
            <a:off x="1042920" y="3470400"/>
            <a:ext cx="2766960" cy="2074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"/>
          <p:cNvPicPr/>
          <p:nvPr/>
        </p:nvPicPr>
        <p:blipFill>
          <a:blip r:embed="rId4"/>
          <a:stretch/>
        </p:blipFill>
        <p:spPr>
          <a:xfrm>
            <a:off x="4459320" y="3405240"/>
            <a:ext cx="2935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5:42:00Z</dcterms:created>
  <dc:creator>NuclExpert 3</dc:creator>
  <dc:description/>
  <dc:language>en-US</dc:language>
  <cp:lastModifiedBy>home</cp:lastModifiedBy>
  <dcterms:modified xsi:type="dcterms:W3CDTF">2012-03-05T09:29:49Z</dcterms:modified>
  <cp:revision>347</cp:revision>
  <dc:subject/>
  <dc:title>Diapositive 1</dc:title>
</cp:coreProperties>
</file>