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5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5571-661D-4523-A1AF-5E5645AC8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C7E5-AA03-42F9-B4B7-D43B9A870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FCDE-66AA-46A8-BF73-F2EBB8252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C4CF-2449-48EC-8162-44ECBA447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2010-A549-4DEF-A17A-CA9FB5EC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64122-6266-45EC-8771-F829194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3F35B-C38A-4F66-89C6-772E5E0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EF429-01CC-4A1E-8774-0A78D3B6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BC27-BC5F-407A-B97B-F7FEED4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2A93-C3AA-4A82-89B3-5882DD60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6B2A-1B29-4EF2-8ADA-54C98B6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062-2FAB-4085-A04E-F2EC1B149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7E6A-6513-42DC-98B3-A18DBD9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8B93-15C1-42EA-8584-EB47362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3937D-CE71-4816-9187-5441D5B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E1DBC-F5F3-48B0-9DE0-A42F7164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76475-60C0-4486-9C84-FBCBE3E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3819C-51AB-4BEE-9810-1EE1AA17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6DF75-328A-4AEC-A8B8-B9C02C9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330B8-8DD5-43ED-ACF3-A69FC982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5A27A-2510-4650-A317-66C8F9E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59A4B-FFE8-419D-A6E2-F567B8D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E7C5-0CF6-4320-AC45-5B3F45FAB2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A8870-CB46-467E-9245-07FCC840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99FC4-B933-49C9-96D0-4D2E3DA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F4E05-9D03-4DE2-8926-D276AA9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9FA87-E2A7-403D-A6A3-DA0B33F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BA791-FA97-4FB0-86BA-6705DBA7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28711-970B-4FC9-B991-AE109122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C1211-45BB-4C6B-9E0D-DE43CFDE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58349-6B7A-459F-B67D-7C2BE4AA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CD9FB-DB15-4E1E-926A-2EB5E19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5DCD0-AF5D-4CC2-A8BD-B2C397A4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664B-84F3-4327-8885-4452BD536D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49835-9D3C-49E6-9414-6176C40A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DB228-4E9B-440F-B714-B5C01B5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73D23-51D8-4588-8F80-0539144F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10D93-3479-4C69-8B4B-D72031E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6D899-C72E-4ECD-8499-FA257781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4CF82-8AE1-4661-842B-1CD900FB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A12CF-DE27-4413-9723-5CCE22E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F2B04-C178-4CFC-B202-2A2850E4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9C86A-7956-4F1B-AF3B-615A8EC0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360D-0C6A-4185-BD7B-A044640B4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06BA-7452-4D61-9F93-68F70047C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433F-562A-4D42-8EC3-52D4DDB6E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F4DB-CE62-424A-A8E6-8B347A7AD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78D9-C38C-40CF-9BE1-4E4CF592A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56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763120" y="6327720"/>
            <a:ext cx="60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Oval 6"/>
          <p:cNvSpPr/>
          <p:nvPr/>
        </p:nvSpPr>
        <p:spPr>
          <a:xfrm>
            <a:off x="7543800" y="990720"/>
            <a:ext cx="990720" cy="99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791320" y="1523880"/>
            <a:ext cx="27432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Oval 8"/>
          <p:cNvSpPr/>
          <p:nvPr/>
        </p:nvSpPr>
        <p:spPr>
          <a:xfrm>
            <a:off x="7867800" y="6480000"/>
            <a:ext cx="438120" cy="4572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515C-F10B-4E4F-A557-EB53CB628D99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" name="Picture 17" descr="WIN EUROPE"/>
          <p:cNvPicPr/>
          <p:nvPr/>
        </p:nvPicPr>
        <p:blipFill>
          <a:blip r:embed="rId2"/>
          <a:stretch/>
        </p:blipFill>
        <p:spPr>
          <a:xfrm>
            <a:off x="7812000" y="115920"/>
            <a:ext cx="1079640" cy="7398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9" descr="SFEN"/>
          <p:cNvPicPr/>
          <p:nvPr/>
        </p:nvPicPr>
        <p:blipFill>
          <a:blip r:embed="rId3"/>
          <a:stretch/>
        </p:blipFill>
        <p:spPr>
          <a:xfrm>
            <a:off x="0" y="6067440"/>
            <a:ext cx="781200" cy="7905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12CF-EBAB-463D-8FCF-774F741FA59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100C-EDAB-49C0-A4E5-C9766CDA35D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C8C-3A87-49FF-A974-A25AE68FD22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3788-48CD-4A85-98F7-22122444C67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4F7D-8E3A-4E15-AD2D-F2C2B34B6A8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A29-96E8-4F4F-B19C-CBD79258017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www.euronuclear.org/events/pime/pime2012/index.ht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46B-0846-4FE3-9BD2-53CED9F550DA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27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 France </a:t>
            </a:r>
            <a:endParaRPr b="0" lang="en-US" sz="3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EDUCATIONAL TOOLS PROJECT</a:t>
            </a:r>
            <a:endParaRPr b="0" lang="en-US" sz="4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                                   </a:t>
            </a:r>
            <a:endParaRPr b="0" lang="en-US" sz="1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Annie Wallet , WIN-France Vice President &amp;</a:t>
            </a: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WIN-lIe-de-France President</a:t>
            </a: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71" name="Object 40"/>
          <p:cNvGraphicFramePr/>
          <p:nvPr/>
        </p:nvGraphicFramePr>
        <p:xfrm>
          <a:off x="0" y="0"/>
          <a:ext cx="22683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Picture 1035" descr="PIME 20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76640"/>
            <a:ext cx="42735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CC4B-3713-44D5-8C40-848F67BDC318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00000" y="22320"/>
            <a:ext cx="486108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Job informa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im: to give advice in helping young people (especially young girls) to get information on jobs and related studies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-33336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Century Gothic"/>
              </a:rPr>
              <a:t>Testimony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: WiN members volunteers testify on their careers, implication, available on paper and website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-33336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Century Gothic"/>
              </a:rPr>
              <a:t>Job description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: missions, studie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35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Image 6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3249360" cy="200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2698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DE18-CFAF-40B9-8CAD-AA63841AF14A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o know more about nuclea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1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here, and how to find relevant information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n the two first domains by :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1314360" indent="-514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entury Gothic"/>
              </a:rPr>
              <a:t>Leaflet “to know more about  nuclear”: 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Recommended links to website, books, .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4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4119480" cy="2808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1952640" cy="2808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0F6D-23F1-4ED5-8C31-E85C84DFF246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um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1032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637000" cy="1976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33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143080" cy="24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4" descr="Copie de P1030897"/>
          <p:cNvPicPr/>
          <p:nvPr/>
        </p:nvPicPr>
        <p:blipFill>
          <a:blip r:embed="rId3"/>
          <a:stretch/>
        </p:blipFill>
        <p:spPr>
          <a:xfrm>
            <a:off x="6443640" y="3598920"/>
            <a:ext cx="1820880" cy="1222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35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636640" cy="1976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37" descr=""/>
          <p:cNvPicPr/>
          <p:nvPr/>
        </p:nvPicPr>
        <p:blipFill>
          <a:blip r:embed="rId5"/>
          <a:stretch/>
        </p:blipFill>
        <p:spPr>
          <a:xfrm>
            <a:off x="6084720" y="1197000"/>
            <a:ext cx="227664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Image 15" descr="DSC00726.JPG"/>
          <p:cNvPicPr/>
          <p:nvPr/>
        </p:nvPicPr>
        <p:blipFill>
          <a:blip r:embed="rId8"/>
          <a:stretch/>
        </p:blipFill>
        <p:spPr>
          <a:xfrm>
            <a:off x="3427560" y="4292640"/>
            <a:ext cx="26654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547-3C98-4403-B731-569FE9FA52BA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9640" y="122724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hanks to have selected WiN France projec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ever will be the result, we were very happy to have the opportunity to present our project 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e would like to shear our tools with any of you who might be interes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e and visit our booth!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Thanks for your attention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ke the right choice!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entury Gothic"/>
              </a:rPr>
              <a:t>Ma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58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029"/>
          <p:cNvSpPr/>
          <p:nvPr/>
        </p:nvSpPr>
        <p:spPr>
          <a:xfrm>
            <a:off x="2411280" y="0"/>
            <a:ext cx="53294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035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2D8-F01B-46B4-90EC-CF76DFDB4A03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needs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ucational tools project 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tools 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76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029"/>
          <p:cNvSpPr/>
          <p:nvPr/>
        </p:nvSpPr>
        <p:spPr>
          <a:xfrm>
            <a:off x="2411280" y="0"/>
            <a:ext cx="53294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 Fran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TOOLS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037-892C-4733-9A19-A6EFB97E19A6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ince 2005  WIN France decided to focus on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en-GB" sz="2000" spc="-1" strike="noStrike">
                <a:solidFill>
                  <a:srgbClr val="000099"/>
                </a:solidFill>
                <a:latin typeface="Century Gothic"/>
              </a:rPr>
              <a:t>ommunicating about nuclear jobs and careers with young people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 volunteer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nbers are professionals working in the nuclear sector (research and industry, medicine or energy generation)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as a booth in several forums for high schools or participate on job days within schools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 volunteer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meet young people, their teachers and parents in order to motivate young girls and their parents toward  scientific career patterns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rom this experiences, skepticism toward sciences and the nuclear industry, the need of a comprehensive set of educational tools has appeared 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81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2053"/>
          <p:cNvSpPr/>
          <p:nvPr/>
        </p:nvSpPr>
        <p:spPr>
          <a:xfrm>
            <a:off x="2771640" y="0"/>
            <a:ext cx="4861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1A3-F3F5-472B-BF10-7FE7C8F3035E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ducational tools projec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WIN Ile de France volunteer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first started by identifying what were the most popular questions asked and information searched for  by young people we me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is was done collectively under the control of one project leader , </a:t>
            </a:r>
            <a:r>
              <a:rPr b="1" lang="en-GB" sz="2000" spc="-1" strike="noStrike">
                <a:solidFill>
                  <a:srgbClr val="004d99"/>
                </a:solidFill>
                <a:latin typeface="Arial"/>
                <a:ea typeface="Arial"/>
              </a:rPr>
              <a:t>Emmanuelle Gaillard Lecanu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questions addres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ree topics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cientific and Technical question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tudies and related job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ources of information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With the support of WiN France and of SFEN (the French Nuclear Society), we started a comprehensive project.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itiated at a local level in Ile de France, it became a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national WiN France project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87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B195-0FC1-493D-A892-9D10B60C97EC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entific and Technical question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worked on the selection of a set of questions, the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ordin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was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validated by teenag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Questions addressed: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hat is radioactivity?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pplications in everyday life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link between radiation and nuclear professions: the risk to employees, how to protect themselve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fears expressed (risks, waste, lack of information,…)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uclear and renewable energies (low carbon energies)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wrote answers to those question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checked that the wording was 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accessible for teenagers ,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Questions and answers were validated by WiN France board members and SFEN communication :Francis Sorin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9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41DA-5DBE-40E8-8931-B00CADA64488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me card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2560" y="1567800"/>
            <a:ext cx="61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general questions (4 card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radioactivity (5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d78b"/>
                </a:solidFill>
                <a:latin typeface="Arial"/>
              </a:rPr>
              <a:t>Gree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energy (4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Orang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radioprotection (3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lue: applications of radioactivity (6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Viole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the risks and fears (11 card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5149080" y="47235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21" descr=""/>
          <p:cNvPicPr/>
          <p:nvPr/>
        </p:nvPicPr>
        <p:blipFill>
          <a:blip r:embed="rId1"/>
          <a:stretch/>
        </p:blipFill>
        <p:spPr>
          <a:xfrm>
            <a:off x="6156360" y="3325680"/>
            <a:ext cx="1500120" cy="2206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99" name="Picture 22" descr=""/>
          <p:cNvPicPr/>
          <p:nvPr/>
        </p:nvPicPr>
        <p:blipFill>
          <a:blip r:embed="rId2"/>
          <a:stretch/>
        </p:blipFill>
        <p:spPr>
          <a:xfrm>
            <a:off x="6905520" y="1198440"/>
            <a:ext cx="1384560" cy="2016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0" name="Picture 23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1511280" cy="22226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1" name="Picture 24" descr=""/>
          <p:cNvPicPr/>
          <p:nvPr/>
        </p:nvPicPr>
        <p:blipFill>
          <a:blip r:embed="rId4"/>
          <a:stretch/>
        </p:blipFill>
        <p:spPr>
          <a:xfrm>
            <a:off x="2700360" y="4641840"/>
            <a:ext cx="1465200" cy="21463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graphicFrame>
        <p:nvGraphicFramePr>
          <p:cNvPr id="20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6295-BB88-4D01-B8C6-821642B3AD3F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Poster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6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Oval 8"/>
          <p:cNvSpPr/>
          <p:nvPr/>
        </p:nvSpPr>
        <p:spPr>
          <a:xfrm>
            <a:off x="6192720" y="2201760"/>
            <a:ext cx="2340000" cy="8654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dioactivity might be natural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3132000" y="2276640"/>
            <a:ext cx="2799000" cy="42494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0" name="Line 6"/>
          <p:cNvSpPr/>
          <p:nvPr/>
        </p:nvSpPr>
        <p:spPr>
          <a:xfrm flipH="1">
            <a:off x="5867280" y="2852640"/>
            <a:ext cx="503280" cy="144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9"/>
          <p:cNvSpPr/>
          <p:nvPr/>
        </p:nvSpPr>
        <p:spPr>
          <a:xfrm flipH="1" flipV="1">
            <a:off x="5651640" y="4869000"/>
            <a:ext cx="574560" cy="217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2411280" y="5373720"/>
            <a:ext cx="792360" cy="647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395280" y="5084640"/>
            <a:ext cx="216072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ience,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path of pa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2700360" y="2636640"/>
            <a:ext cx="576360" cy="433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6084720" y="4508640"/>
            <a:ext cx="2303640" cy="12967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 example: your body contains radioa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1040" y="141444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im: to deliver positive messages</a:t>
            </a: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755640" y="2708280"/>
            <a:ext cx="2052720" cy="792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 You know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46B-1F25-4BE6-A5BB-B3CAB13B53DE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3 other poster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0" y="1413000"/>
            <a:ext cx="2637000" cy="41036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2706480" cy="4248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22" name="Picture 12" descr=""/>
          <p:cNvPicPr/>
          <p:nvPr/>
        </p:nvPicPr>
        <p:blipFill>
          <a:blip r:embed="rId3"/>
          <a:stretch/>
        </p:blipFill>
        <p:spPr>
          <a:xfrm>
            <a:off x="2951280" y="1930320"/>
            <a:ext cx="2592360" cy="41022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graphicFrame>
        <p:nvGraphicFramePr>
          <p:cNvPr id="223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CCCF-E9B3-4166-98CD-91129E006909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91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Starting from the game cards content quizz has been created (WiN France website)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nteractive display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Flexibility in order to add new questions and answ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Possibility of actualisization of the questions and answ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771640" y="0"/>
            <a:ext cx="4861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re recent developm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iz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"/>
          <p:cNvPicPr/>
          <p:nvPr/>
        </p:nvPicPr>
        <p:blipFill>
          <a:blip r:embed="rId3"/>
          <a:stretch/>
        </p:blipFill>
        <p:spPr>
          <a:xfrm>
            <a:off x="1042920" y="3470400"/>
            <a:ext cx="2766960" cy="2074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4"/>
          <a:stretch/>
        </p:blipFill>
        <p:spPr>
          <a:xfrm>
            <a:off x="4459320" y="3405240"/>
            <a:ext cx="2935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42:00Z</dcterms:created>
  <dc:creator>NuclExpert 3</dc:creator>
  <dc:description/>
  <dc:language>en-US</dc:language>
  <cp:lastModifiedBy>home</cp:lastModifiedBy>
  <dcterms:modified xsi:type="dcterms:W3CDTF">2012-03-05T09:29:49Z</dcterms:modified>
  <cp:revision>347</cp:revision>
  <dc:subject/>
  <dc:title>Diapositive 1</dc:title>
</cp:coreProperties>
</file>