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3317-E6C8-42DA-BED2-E8A286DAC6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4A9E-0271-4D67-A4B0-A0C11439077E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7240" y="434196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5F6C-F950-4975-8124-7017EDE9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630E-F2E1-4531-B308-802F97B2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C353-4CDF-4154-A161-C02F58F58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5A47-0297-4668-8A56-AF0D561D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F2CD-D3B3-46B5-ABE1-AEC863EB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DAB9-2742-4A7F-AB12-1CCB8DDE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6FE6-D312-485C-B31D-FF8E6491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F274-15AA-4263-8495-B01F155C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00CD-C6A2-4362-B58F-420A658E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35E3-35F2-48FF-A58B-84A12F66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0FD9-31E2-4D85-AD9D-9DC01764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2669-1A64-48E7-80C0-2D78052B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3F35-78D4-4C39-BF10-26BA340A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B1F2-E23A-484A-831E-12563B87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3F61-047E-44FE-B2CD-DC4CCBC7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E3D9-EC22-4D33-8131-2098A24E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0786-8BE4-4F2E-92E6-9E1D12FB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95F3-4E63-46BA-B31B-4D333BD1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7456-AC2A-430D-9F8E-6ECB81DB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A945-8CA1-4EB1-BF2C-68D26468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2FB4-837F-4BBC-8AF2-FF1ADF4E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C4FD-4628-44D6-90ED-9AA164B7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9806-6F5C-4E63-9467-4C6BD062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0721-65A9-4BEA-B1BA-CB44FDDB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8B9F-E7EC-44F8-9232-A2C41D8D4A51}" type="slidenum">
              <a:rPr b="0" lang="fr-FR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96BC-9541-4B7E-AD49-13B80D829FBA}" type="slidenum">
              <a:rPr b="0" lang="fr-FR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2" descr=""/>
          <p:cNvPicPr/>
          <p:nvPr/>
        </p:nvPicPr>
        <p:blipFill>
          <a:blip r:embed="rId1"/>
          <a:stretch/>
        </p:blipFill>
        <p:spPr>
          <a:xfrm>
            <a:off x="189000" y="1365120"/>
            <a:ext cx="9077400" cy="2054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By 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Book Antiqua"/>
              </a:rPr>
              <a:t>Annick Carnino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Book Antiqua"/>
              </a:rPr>
              <a:t>(former Director of IAEA Division of Nuclear Installations Safety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Book Antiqua"/>
              </a:rPr>
              <a:t>PIME, February 13- 15, 2012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7164360" y="1557360"/>
            <a:ext cx="1584360" cy="2592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68360" y="1064880"/>
            <a:ext cx="5051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OBJECTIV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.8. The objective of this publication is to define requirements for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410082"/>
                </a:solidFill>
                <a:latin typeface="Book Antiqua"/>
              </a:rPr>
              <a:t>establishing, implementing, assessing and continually improving a managemen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0082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410082"/>
                </a:solidFill>
                <a:latin typeface="Book Antiqua"/>
              </a:rPr>
              <a:t>system that integrates safety, health, environmental, security, quality and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0082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410082"/>
                </a:solidFill>
                <a:latin typeface="Book Antiqua"/>
              </a:rPr>
              <a:t>economic elements to ensure that safety is properly taken into account in al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0082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410082"/>
                </a:solidFill>
                <a:latin typeface="Book Antiqua"/>
              </a:rPr>
              <a:t>the activities of an organization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.9. The main objective of the requirements for the management system is to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410082"/>
                </a:solidFill>
                <a:latin typeface="Book Antiqua"/>
              </a:rPr>
              <a:t>ensure, by considering the implications of all actions not within separat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0082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410082"/>
                </a:solidFill>
                <a:latin typeface="Book Antiqua"/>
              </a:rPr>
              <a:t>management systems but with regard to safety as a whole, that safety is no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0082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410082"/>
                </a:solidFill>
                <a:latin typeface="Book Antiqua"/>
              </a:rPr>
              <a:t>compromised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476360" y="189000"/>
            <a:ext cx="6048360" cy="647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xample on Safety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2953080" cy="4392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41860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07800" y="187200"/>
            <a:ext cx="85345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ecff"/>
                </a:solidFill>
                <a:latin typeface="Arial"/>
              </a:rPr>
              <a:t>Safety Analysis Methodolog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0" y="15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Object 7"/>
          <p:cNvGraphicFramePr/>
          <p:nvPr/>
        </p:nvGraphicFramePr>
        <p:xfrm>
          <a:off x="324000" y="717480"/>
          <a:ext cx="8640720" cy="6091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717480"/>
                    <a:ext cx="8640720" cy="60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9c2d1"/>
                </a:solidFill>
                <a:latin typeface="Arial"/>
              </a:rPr>
              <a:t>Levels of Defence-In-Dep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71640" y="1125360"/>
          <a:ext cx="7561080" cy="5340600"/>
        </p:xfrm>
        <a:graphic>
          <a:graphicData uri="http://schemas.openxmlformats.org/drawingml/2006/table">
            <a:tbl>
              <a:tblPr/>
              <a:tblGrid>
                <a:gridCol w="1700280"/>
                <a:gridCol w="3024000"/>
                <a:gridCol w="2836800"/>
              </a:tblGrid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vels o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ence-in-dep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cti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sential means f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hieving the objecti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vel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vention of abnormal oper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failu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ervative design an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 quality in construc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oper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vel 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>
                        <a:alpha val="24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 of abnormal oper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detection of failu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>
                        <a:alpha val="24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, limiting and protection systems and systems and other surveillance featu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>
                        <a:alpha val="24000"/>
                      </a:srgbClr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vel 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>
                        <a:alpha val="5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 of accidents within th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ign bas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>
                        <a:alpha val="5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gineered safety features and accident procedu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>
                        <a:alpha val="56000"/>
                      </a:srgbClr>
                    </a:solidFill>
                  </a:tcPr>
                </a:tc>
              </a:tr>
              <a:tr h="142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vel 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 of severe plant conditions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luding prevention of accid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ession and mitigation of th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equences of severe accide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mentary measures and accident manag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vel 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tigation of radiologic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equences of significa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eases of radioactive materia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ff-site emergency respons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Book Antiqua"/>
              </a:rPr>
              <a:t>Part II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Book Antiqua"/>
              </a:rPr>
              <a:t>International Nuclear Safety Convention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Book Antiqua"/>
              </a:rPr>
              <a:t>Obligations</a:t>
            </a:r>
            <a:r>
              <a:rPr b="0" lang="fr-FR" sz="2400" spc="-1" strike="noStrike">
                <a:solidFill>
                  <a:srgbClr val="000000"/>
                </a:solidFill>
                <a:latin typeface="Book Antiqua"/>
              </a:rPr>
              <a:t> based on the first version of the safety fundamenta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Book Antiqua"/>
              </a:rPr>
              <a:t>Objectives</a:t>
            </a:r>
            <a:r>
              <a:rPr b="0" lang="fr-FR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Book Antiqua"/>
              </a:rPr>
              <a:t>to achieve and maintain a high level of nuclear safety worldwide..;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Book Antiqua"/>
              </a:rPr>
              <a:t>to protect individuals, society and the environment from harmful effect of ionizing radiation…;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Book Antiqua"/>
              </a:rPr>
              <a:t>to prevent accidents with radiological consequences and to mitigate such consequences should they occur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Rectangle 2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9637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ook Antiqua"/>
              </a:rPr>
              <a:t>The Convention applies to “the safety of nuclear installations” (civil and land-based)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ook Antiqua"/>
              </a:rPr>
              <a:t>Each Contracting Party shall: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Book Antiqua"/>
              </a:rPr>
              <a:t>- </a:t>
            </a:r>
            <a:r>
              <a:rPr b="0" lang="fr-FR" sz="2600" spc="-1" strike="noStrike">
                <a:solidFill>
                  <a:srgbClr val="000000"/>
                </a:solidFill>
                <a:latin typeface="Book Antiqua"/>
              </a:rPr>
              <a:t>ensure that the safety of nuclear installations is reviewed as soon as possible..;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Book Antiqua"/>
              </a:rPr>
              <a:t>- ensure that all reasonably practical improvements are made to upgrade the safety of the nuclear installation..;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Book Antiqua"/>
              </a:rPr>
              <a:t>- shut down the nuclear installation as soon as practically possible, if such upgrading cannot be achieved…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Titre 1" descr=""/>
          <p:cNvPicPr/>
          <p:nvPr/>
        </p:nvPicPr>
        <p:blipFill>
          <a:blip r:embed="rId1"/>
          <a:stretch/>
        </p:blipFill>
        <p:spPr>
          <a:xfrm>
            <a:off x="463680" y="255600"/>
            <a:ext cx="8381880" cy="54687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Titr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61 of the 72 Contracting Parties participat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8 CP did not submit a national report and 11 did not participa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pecial statement on Fukushima was mad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special meeting was decided for next year on reviewing and sharing the lessons learned and on actions taken by CP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Titre 1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242560" cy="1334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Nuclear power plant design against external events;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47840" indent="-447840">
              <a:spcBef>
                <a:spcPts val="499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Off site response to emergency situations (e.g. station blackout);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47840" indent="-447840">
              <a:spcBef>
                <a:spcPts val="499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Emergency management and preparedness following worst case accident scenarios;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47840" indent="-447840">
              <a:spcBef>
                <a:spcPts val="499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afety consideration for operation of multi-units at the same Nuclear Power Plant site;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47840" indent="-447840">
              <a:spcBef>
                <a:spcPts val="499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Book Antiqua"/>
              </a:rPr>
              <a:t>Cooling  of spent fuel storage in severe accident scenarios;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47840" indent="-447840">
              <a:spcBef>
                <a:spcPts val="499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raining of Nuclear Power Plant operators for severe accident scenarios;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47840" indent="-447840">
              <a:spcBef>
                <a:spcPts val="499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adiological monitoring following Nuclear Power Plant accident involving radiological release;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47840" indent="-447840">
              <a:spcBef>
                <a:spcPts val="499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ublic protection emergency actions;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47840" indent="-447840">
              <a:spcBef>
                <a:spcPts val="499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Book Antiqua"/>
              </a:rPr>
              <a:t>Communications in emergency situations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47840" indent="-44784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Book Antiqua"/>
              </a:rPr>
              <a:t>Part I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Book Antiqua"/>
              </a:rPr>
              <a:t>Why Having Safety Standard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Book Antiqua"/>
              </a:rPr>
              <a:t>Part IV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Book Antiqua"/>
              </a:rPr>
              <a:t>Safety Review Service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Rectangle 2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9684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Preparatory meeting one year befo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Designation of IAEA team leader and selection of the « peer experts » from different countr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On site review starting with team bonding and training,standards to be us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Every day discussion of the findings and recommendations, suggestions and presentation to the managemen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First report given to the installation managers and presentation to the personnel (exit meeting in presence of Regulator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Two years later on site review of the recommendations implement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236680" y="5037120"/>
            <a:ext cx="5054760" cy="1556280"/>
          </a:xfrm>
          <a:prstGeom prst="rect">
            <a:avLst/>
          </a:prstGeom>
          <a:gradFill rotWithShape="0">
            <a:gsLst>
              <a:gs pos="0">
                <a:srgbClr val="b0dcdc"/>
              </a:gs>
              <a:gs pos="50000">
                <a:srgbClr val="ccffff"/>
              </a:gs>
              <a:gs pos="100000">
                <a:srgbClr val="b0dc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ndara"/>
              </a:rPr>
              <a:t>Safety Review Services based on IAEA Safety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3"/>
          <p:cNvSpPr/>
          <p:nvPr/>
        </p:nvSpPr>
        <p:spPr>
          <a:xfrm flipV="1">
            <a:off x="4905360" y="2081160"/>
            <a:ext cx="1459080" cy="2803680"/>
          </a:xfrm>
          <a:prstGeom prst="line">
            <a:avLst/>
          </a:prstGeom>
          <a:ln w="57240">
            <a:solidFill>
              <a:srgbClr val="33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4"/>
          <p:cNvSpPr/>
          <p:nvPr/>
        </p:nvSpPr>
        <p:spPr>
          <a:xfrm flipV="1">
            <a:off x="4916520" y="2876040"/>
            <a:ext cx="3068640" cy="2008440"/>
          </a:xfrm>
          <a:prstGeom prst="line">
            <a:avLst/>
          </a:prstGeom>
          <a:ln w="57240">
            <a:solidFill>
              <a:srgbClr val="33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5"/>
          <p:cNvSpPr/>
          <p:nvPr/>
        </p:nvSpPr>
        <p:spPr>
          <a:xfrm flipV="1">
            <a:off x="4924440" y="2854440"/>
            <a:ext cx="185760" cy="2000160"/>
          </a:xfrm>
          <a:prstGeom prst="line">
            <a:avLst/>
          </a:prstGeom>
          <a:ln w="57240">
            <a:solidFill>
              <a:srgbClr val="33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 flipH="1" flipV="1">
            <a:off x="2523960" y="2873160"/>
            <a:ext cx="2392560" cy="2011320"/>
          </a:xfrm>
          <a:prstGeom prst="line">
            <a:avLst/>
          </a:prstGeom>
          <a:ln w="57240">
            <a:solidFill>
              <a:srgbClr val="33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7"/>
          <p:cNvSpPr/>
          <p:nvPr/>
        </p:nvSpPr>
        <p:spPr>
          <a:xfrm flipH="1" flipV="1">
            <a:off x="1910880" y="3658680"/>
            <a:ext cx="2994120" cy="1227240"/>
          </a:xfrm>
          <a:prstGeom prst="line">
            <a:avLst/>
          </a:prstGeom>
          <a:ln w="57240">
            <a:solidFill>
              <a:srgbClr val="33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8"/>
          <p:cNvSpPr/>
          <p:nvPr/>
        </p:nvSpPr>
        <p:spPr>
          <a:xfrm flipV="1">
            <a:off x="4905360" y="3637080"/>
            <a:ext cx="704880" cy="1247760"/>
          </a:xfrm>
          <a:prstGeom prst="line">
            <a:avLst/>
          </a:prstGeom>
          <a:ln w="57240">
            <a:solidFill>
              <a:srgbClr val="33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 flipH="1" flipV="1">
            <a:off x="953640" y="2081160"/>
            <a:ext cx="3932280" cy="2773440"/>
          </a:xfrm>
          <a:prstGeom prst="line">
            <a:avLst/>
          </a:prstGeom>
          <a:ln w="57240">
            <a:solidFill>
              <a:srgbClr val="33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0"/>
          <p:cNvSpPr/>
          <p:nvPr/>
        </p:nvSpPr>
        <p:spPr>
          <a:xfrm flipH="1" flipV="1">
            <a:off x="3096720" y="2077920"/>
            <a:ext cx="1809720" cy="2795760"/>
          </a:xfrm>
          <a:prstGeom prst="line">
            <a:avLst/>
          </a:prstGeom>
          <a:ln w="57240">
            <a:solidFill>
              <a:srgbClr val="33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Rectangle 11" descr=""/>
          <p:cNvPicPr/>
          <p:nvPr/>
        </p:nvPicPr>
        <p:blipFill>
          <a:blip r:embed="rId1"/>
          <a:stretch/>
        </p:blipFill>
        <p:spPr>
          <a:xfrm>
            <a:off x="390600" y="0"/>
            <a:ext cx="8393040" cy="12556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2"/>
          <p:cNvSpPr/>
          <p:nvPr/>
        </p:nvSpPr>
        <p:spPr>
          <a:xfrm>
            <a:off x="166680" y="1622520"/>
            <a:ext cx="1438200" cy="398880"/>
          </a:xfrm>
          <a:prstGeom prst="rect">
            <a:avLst/>
          </a:prstGeom>
          <a:gradFill rotWithShape="0">
            <a:gsLst>
              <a:gs pos="0">
                <a:srgbClr val="897b44"/>
              </a:gs>
              <a:gs pos="50000">
                <a:srgbClr val="ceb966"/>
              </a:gs>
              <a:gs pos="100000">
                <a:srgbClr val="897b4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Concep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3"/>
          <p:cNvSpPr/>
          <p:nvPr/>
        </p:nvSpPr>
        <p:spPr>
          <a:xfrm>
            <a:off x="1650960" y="1670040"/>
            <a:ext cx="27612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1963800" y="1622520"/>
            <a:ext cx="2179440" cy="429120"/>
          </a:xfrm>
          <a:prstGeom prst="rect">
            <a:avLst/>
          </a:prstGeom>
          <a:gradFill rotWithShape="0">
            <a:gsLst>
              <a:gs pos="0">
                <a:srgbClr val="897b44"/>
              </a:gs>
              <a:gs pos="50000">
                <a:srgbClr val="ceb966"/>
              </a:gs>
              <a:gs pos="100000">
                <a:srgbClr val="897b4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andara"/>
              </a:rPr>
              <a:t>Site evalu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5"/>
          <p:cNvSpPr/>
          <p:nvPr/>
        </p:nvSpPr>
        <p:spPr>
          <a:xfrm>
            <a:off x="4211640" y="1670040"/>
            <a:ext cx="28584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6954840" y="2405160"/>
            <a:ext cx="2013120" cy="825480"/>
          </a:xfrm>
          <a:prstGeom prst="rect">
            <a:avLst/>
          </a:prstGeom>
          <a:gradFill rotWithShape="0">
            <a:gsLst>
              <a:gs pos="0">
                <a:srgbClr val="897b44"/>
              </a:gs>
              <a:gs pos="50000">
                <a:srgbClr val="ceb966"/>
              </a:gs>
              <a:gs pos="100000">
                <a:srgbClr val="897b4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ndara"/>
              </a:rPr>
              <a:t>Constr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7"/>
          <p:cNvSpPr/>
          <p:nvPr/>
        </p:nvSpPr>
        <p:spPr>
          <a:xfrm flipH="1">
            <a:off x="6177960" y="2451240"/>
            <a:ext cx="725400" cy="360360"/>
          </a:xfrm>
          <a:prstGeom prst="rightArrow">
            <a:avLst>
              <a:gd name="adj1" fmla="val 50000"/>
              <a:gd name="adj2" fmla="val 50325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390600" y="3195720"/>
            <a:ext cx="2970000" cy="764280"/>
          </a:xfrm>
          <a:prstGeom prst="rect">
            <a:avLst/>
          </a:prstGeom>
          <a:gradFill rotWithShape="0">
            <a:gsLst>
              <a:gs pos="0">
                <a:srgbClr val="897b44"/>
              </a:gs>
              <a:gs pos="50000">
                <a:srgbClr val="ceb966"/>
              </a:gs>
              <a:gs pos="100000">
                <a:srgbClr val="897b4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andara"/>
              </a:rPr>
              <a:t>Pre-decommissio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9"/>
          <p:cNvSpPr/>
          <p:nvPr/>
        </p:nvSpPr>
        <p:spPr>
          <a:xfrm>
            <a:off x="3408480" y="3227400"/>
            <a:ext cx="772920" cy="360360"/>
          </a:xfrm>
          <a:prstGeom prst="rightArrow">
            <a:avLst>
              <a:gd name="adj1" fmla="val 50000"/>
              <a:gd name="adj2" fmla="val 53621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4194000" y="3195720"/>
            <a:ext cx="2968920" cy="459720"/>
          </a:xfrm>
          <a:prstGeom prst="rect">
            <a:avLst/>
          </a:prstGeom>
          <a:gradFill rotWithShape="0">
            <a:gsLst>
              <a:gs pos="0">
                <a:srgbClr val="897b44"/>
              </a:gs>
              <a:gs pos="50000">
                <a:srgbClr val="ceb966"/>
              </a:gs>
              <a:gs pos="100000">
                <a:srgbClr val="897b4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ndara"/>
              </a:rPr>
              <a:t>Decommiss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21"/>
          <p:cNvSpPr/>
          <p:nvPr/>
        </p:nvSpPr>
        <p:spPr>
          <a:xfrm rot="10800000">
            <a:off x="891720" y="2565360"/>
            <a:ext cx="592200" cy="565200"/>
          </a:xfrm>
          <a:custGeom>
            <a:avLst/>
            <a:gdLst>
              <a:gd name="textAreaLeft" fmla="*/ 0 w 592200"/>
              <a:gd name="textAreaRight" fmla="*/ 507600 w 592200"/>
              <a:gd name="textAreaTop" fmla="*/ 376920 h 565200"/>
              <a:gd name="textAreaBottom" fmla="*/ 565560 h 5652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ceb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12720" y="2405160"/>
            <a:ext cx="1828800" cy="459720"/>
          </a:xfrm>
          <a:prstGeom prst="rect">
            <a:avLst/>
          </a:prstGeom>
          <a:gradFill rotWithShape="0">
            <a:gsLst>
              <a:gs pos="0">
                <a:srgbClr val="897b44"/>
              </a:gs>
              <a:gs pos="50000">
                <a:srgbClr val="ceb966"/>
              </a:gs>
              <a:gs pos="100000">
                <a:srgbClr val="897b4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ndara"/>
              </a:rPr>
              <a:t>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23"/>
          <p:cNvSpPr/>
          <p:nvPr/>
        </p:nvSpPr>
        <p:spPr>
          <a:xfrm flipH="1">
            <a:off x="3375720" y="2451240"/>
            <a:ext cx="676440" cy="360360"/>
          </a:xfrm>
          <a:prstGeom prst="rightArrow">
            <a:avLst>
              <a:gd name="adj1" fmla="val 50000"/>
              <a:gd name="adj2" fmla="val 46928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4102200" y="2405160"/>
            <a:ext cx="2060640" cy="764280"/>
          </a:xfrm>
          <a:prstGeom prst="rect">
            <a:avLst/>
          </a:prstGeom>
          <a:gradFill rotWithShape="0">
            <a:gsLst>
              <a:gs pos="0">
                <a:srgbClr val="897b44"/>
              </a:gs>
              <a:gs pos="50000">
                <a:srgbClr val="ceb966"/>
              </a:gs>
              <a:gs pos="100000">
                <a:srgbClr val="897b4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andara"/>
              </a:rPr>
              <a:t>Commissio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25"/>
          <p:cNvSpPr/>
          <p:nvPr/>
        </p:nvSpPr>
        <p:spPr>
          <a:xfrm flipH="1" rot="10800000">
            <a:off x="8055000" y="1771200"/>
            <a:ext cx="603360" cy="576360"/>
          </a:xfrm>
          <a:custGeom>
            <a:avLst/>
            <a:gdLst>
              <a:gd name="textAreaLeft" fmla="*/ 360 w 603360"/>
              <a:gd name="textAreaRight" fmla="*/ 517680 w 603360"/>
              <a:gd name="textAreaTop" fmla="*/ 38448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ceb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6"/>
          <p:cNvSpPr/>
          <p:nvPr/>
        </p:nvSpPr>
        <p:spPr>
          <a:xfrm>
            <a:off x="4500720" y="1628640"/>
            <a:ext cx="3471840" cy="459720"/>
          </a:xfrm>
          <a:prstGeom prst="rect">
            <a:avLst/>
          </a:prstGeom>
          <a:gradFill rotWithShape="0">
            <a:gsLst>
              <a:gs pos="0">
                <a:srgbClr val="897b44"/>
              </a:gs>
              <a:gs pos="50000">
                <a:srgbClr val="ceb966"/>
              </a:gs>
              <a:gs pos="100000">
                <a:srgbClr val="897b4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ndara"/>
              </a:rPr>
              <a:t>Safety Assess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00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9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5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8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9000"/>
                            </p:stCondLst>
                            <p:childTnLst>
                              <p:par>
                                <p:cTn id="19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1000"/>
                            </p:stCondLst>
                            <p:childTnLst>
                              <p:par>
                                <p:cTn id="1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3000"/>
                            </p:stCondLst>
                            <p:childTnLst>
                              <p:par>
                                <p:cTn id="209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4000"/>
                            </p:stCondLst>
                            <p:childTnLst>
                              <p:par>
                                <p:cTn id="213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6000"/>
                            </p:stCondLst>
                            <p:childTnLst>
                              <p:par>
                                <p:cTn id="2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7000"/>
                            </p:stCondLst>
                            <p:childTnLst>
                              <p:par>
                                <p:cTn id="2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8000"/>
                            </p:stCondLst>
                            <p:childTnLst>
                              <p:par>
                                <p:cTn id="23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90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1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20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3000"/>
                            </p:stCondLst>
                            <p:childTnLst>
                              <p:par>
                                <p:cTn id="25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4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6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7000"/>
                            </p:stCondLst>
                            <p:childTnLst>
                              <p:par>
                                <p:cTn id="2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8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Rectangle 2" descr=""/>
          <p:cNvPicPr/>
          <p:nvPr/>
        </p:nvPicPr>
        <p:blipFill>
          <a:blip r:embed="rId1"/>
          <a:stretch/>
        </p:blipFill>
        <p:spPr>
          <a:xfrm>
            <a:off x="463680" y="-85680"/>
            <a:ext cx="8242200" cy="944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2410920" y="1699920"/>
            <a:ext cx="62182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Regulatory Framework and Activit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9cb08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 Antiqua"/>
              </a:rPr>
              <a:t>IRR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– Integrated Regulatory Review Servi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Operational Safet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9cb08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 Antiqua"/>
              </a:rPr>
              <a:t>OSAR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– Operational Safety Review Tea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9cb08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 Antiqua"/>
              </a:rPr>
              <a:t>SEDO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– Safety Evaluation of Fuel Cycle Facilities During Oper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9cb08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 Antiqua"/>
              </a:rPr>
              <a:t>SCART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– Safety Culture Assessment Review Tea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5" name="Picture 4" descr="CONTROL PANEL"/>
          <p:cNvPicPr/>
          <p:nvPr/>
        </p:nvPicPr>
        <p:blipFill>
          <a:blip r:embed="rId2"/>
          <a:stretch/>
        </p:blipFill>
        <p:spPr>
          <a:xfrm>
            <a:off x="179280" y="1125360"/>
            <a:ext cx="1778040" cy="1656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eXPERTS"/>
          <p:cNvPicPr/>
          <p:nvPr/>
        </p:nvPicPr>
        <p:blipFill>
          <a:blip r:embed="rId3"/>
          <a:stretch/>
        </p:blipFill>
        <p:spPr>
          <a:xfrm>
            <a:off x="179280" y="2781360"/>
            <a:ext cx="1790640" cy="1342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training"/>
          <p:cNvPicPr/>
          <p:nvPr/>
        </p:nvPicPr>
        <p:blipFill>
          <a:blip r:embed="rId4"/>
          <a:stretch/>
        </p:blipFill>
        <p:spPr>
          <a:xfrm>
            <a:off x="179280" y="4076640"/>
            <a:ext cx="1803600" cy="1352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Fuel Rod inspection Mox, Bagnol, FRA"/>
          <p:cNvPicPr/>
          <p:nvPr/>
        </p:nvPicPr>
        <p:blipFill>
          <a:blip r:embed="rId5"/>
          <a:stretch/>
        </p:blipFill>
        <p:spPr>
          <a:xfrm>
            <a:off x="179280" y="5373720"/>
            <a:ext cx="180036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2843280" y="1628640"/>
            <a:ext cx="58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Research Reacto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9cb08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 Antiqua"/>
              </a:rPr>
              <a:t>INSARR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– Integrated Safety Assessment of Research Reacto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Engineering and Technical Safe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9cb08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 Antiqua"/>
              </a:rPr>
              <a:t>Safety Assessment Service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– Engineering/Safety Assessment Review Servic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1" name="Picture 4" descr="CONTROL PANEL"/>
          <p:cNvPicPr/>
          <p:nvPr/>
        </p:nvPicPr>
        <p:blipFill>
          <a:blip r:embed="rId2"/>
          <a:stretch/>
        </p:blipFill>
        <p:spPr>
          <a:xfrm>
            <a:off x="250920" y="1268280"/>
            <a:ext cx="1778040" cy="1368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eXPERTS"/>
          <p:cNvPicPr/>
          <p:nvPr/>
        </p:nvPicPr>
        <p:blipFill>
          <a:blip r:embed="rId3"/>
          <a:stretch/>
        </p:blipFill>
        <p:spPr>
          <a:xfrm>
            <a:off x="250920" y="2637000"/>
            <a:ext cx="1790640" cy="13428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training"/>
          <p:cNvPicPr/>
          <p:nvPr/>
        </p:nvPicPr>
        <p:blipFill>
          <a:blip r:embed="rId4"/>
          <a:stretch/>
        </p:blipFill>
        <p:spPr>
          <a:xfrm>
            <a:off x="250920" y="4005360"/>
            <a:ext cx="1803240" cy="1352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Fuel Rod inspection Mox, Bagnol, FRA"/>
          <p:cNvPicPr/>
          <p:nvPr/>
        </p:nvPicPr>
        <p:blipFill>
          <a:blip r:embed="rId5"/>
          <a:stretch/>
        </p:blipFill>
        <p:spPr>
          <a:xfrm>
            <a:off x="250920" y="5300640"/>
            <a:ext cx="1800000" cy="127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Titr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Book Antiqua"/>
              </a:rPr>
              <a:t>Member States asked the IAE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to address issues related to nuclear safety, emergency preparedness and response and radiation protection of people and the environment, as well as the international legal framework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Book Antiqua"/>
              </a:rPr>
              <a:t>to strengthen nuclear Safety Standards; to systematically review the safety of all nuclear power plants, including by expanding the IAEA's programme of expert peer reviews; to enhance the effectiveness of national nuclear regulatory bodies and ensure their independence; to strengthen the global emergency preparedness and response system; and to expand the Agency's role in receiving and disseminating information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Harmonization of safety to higher leve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Revision processes for new knowledge and experience feedbac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References for Conven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References for peer safety review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Basis for Legislations and Regulations in countries starting nuclear programm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Book Antiqua"/>
              </a:rPr>
              <a:t>Statute of IAE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« …to establish or adopt …standards of safety for the protection of health and minimization of danger to life and property »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« and to provide for the application of these standards »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Book Antiqua"/>
              </a:rPr>
              <a:t>Part II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Book Antiqua"/>
              </a:rPr>
              <a:t>IAEA Safety Standard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82600" y="9828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9c2d1"/>
                </a:solidFill>
                <a:latin typeface="Arial"/>
              </a:rPr>
              <a:t>Safety Standards Hierarc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Group 6"/>
          <p:cNvGrpSpPr/>
          <p:nvPr/>
        </p:nvGrpSpPr>
        <p:grpSpPr>
          <a:xfrm>
            <a:off x="552600" y="3984480"/>
            <a:ext cx="4326840" cy="1842840"/>
            <a:chOff x="552600" y="3984480"/>
            <a:chExt cx="4326840" cy="1842840"/>
          </a:xfrm>
        </p:grpSpPr>
        <p:sp>
          <p:nvSpPr>
            <p:cNvPr id="104" name="Freeform 7"/>
            <p:cNvSpPr/>
            <p:nvPr/>
          </p:nvSpPr>
          <p:spPr>
            <a:xfrm>
              <a:off x="1166760" y="3984480"/>
              <a:ext cx="3092040" cy="614160"/>
            </a:xfrm>
            <a:custGeom>
              <a:avLst/>
              <a:gdLst>
                <a:gd name="textAreaLeft" fmla="*/ 0 w 3092040"/>
                <a:gd name="textAreaRight" fmla="*/ 3092400 w 309204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1948" h="387">
                  <a:moveTo>
                    <a:pt x="0" y="387"/>
                  </a:moveTo>
                  <a:lnTo>
                    <a:pt x="1561" y="387"/>
                  </a:lnTo>
                  <a:lnTo>
                    <a:pt x="1948" y="0"/>
                  </a:lnTo>
                  <a:lnTo>
                    <a:pt x="387" y="0"/>
                  </a:lnTo>
                  <a:lnTo>
                    <a:pt x="0" y="387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8"/>
            <p:cNvSpPr/>
            <p:nvPr/>
          </p:nvSpPr>
          <p:spPr>
            <a:xfrm>
              <a:off x="1166760" y="3984480"/>
              <a:ext cx="3092040" cy="614160"/>
            </a:xfrm>
            <a:custGeom>
              <a:avLst/>
              <a:gdLst>
                <a:gd name="textAreaLeft" fmla="*/ 0 w 3092040"/>
                <a:gd name="textAreaRight" fmla="*/ 3092400 w 309204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1948" h="387">
                  <a:moveTo>
                    <a:pt x="0" y="387"/>
                  </a:moveTo>
                  <a:lnTo>
                    <a:pt x="1561" y="387"/>
                  </a:lnTo>
                  <a:lnTo>
                    <a:pt x="1948" y="0"/>
                  </a:lnTo>
                  <a:lnTo>
                    <a:pt x="387" y="0"/>
                  </a:lnTo>
                  <a:lnTo>
                    <a:pt x="0" y="38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9"/>
            <p:cNvSpPr/>
            <p:nvPr/>
          </p:nvSpPr>
          <p:spPr>
            <a:xfrm>
              <a:off x="3645000" y="3984480"/>
              <a:ext cx="1234440" cy="1842840"/>
            </a:xfrm>
            <a:custGeom>
              <a:avLst/>
              <a:gdLst>
                <a:gd name="textAreaLeft" fmla="*/ 0 w 1234440"/>
                <a:gd name="textAreaRight" fmla="*/ 1234800 w 1234440"/>
                <a:gd name="textAreaTop" fmla="*/ 0 h 1842840"/>
                <a:gd name="textAreaBottom" fmla="*/ 1843200 h 1842840"/>
              </a:gdLst>
              <a:ahLst/>
              <a:rect l="textAreaLeft" t="textAreaTop" r="textAreaRight" b="textAreaBottom"/>
              <a:pathLst>
                <a:path w="778" h="1161">
                  <a:moveTo>
                    <a:pt x="0" y="387"/>
                  </a:moveTo>
                  <a:lnTo>
                    <a:pt x="391" y="1161"/>
                  </a:lnTo>
                  <a:lnTo>
                    <a:pt x="778" y="774"/>
                  </a:lnTo>
                  <a:lnTo>
                    <a:pt x="387" y="0"/>
                  </a:lnTo>
                  <a:lnTo>
                    <a:pt x="0" y="387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0"/>
            <p:cNvSpPr/>
            <p:nvPr/>
          </p:nvSpPr>
          <p:spPr>
            <a:xfrm>
              <a:off x="3645000" y="3984480"/>
              <a:ext cx="1234440" cy="1842840"/>
            </a:xfrm>
            <a:custGeom>
              <a:avLst/>
              <a:gdLst>
                <a:gd name="textAreaLeft" fmla="*/ 0 w 1234440"/>
                <a:gd name="textAreaRight" fmla="*/ 1234800 w 1234440"/>
                <a:gd name="textAreaTop" fmla="*/ 0 h 1842840"/>
                <a:gd name="textAreaBottom" fmla="*/ 1843200 h 1842840"/>
              </a:gdLst>
              <a:ahLst/>
              <a:rect l="textAreaLeft" t="textAreaTop" r="textAreaRight" b="textAreaBottom"/>
              <a:pathLst>
                <a:path w="778" h="1161">
                  <a:moveTo>
                    <a:pt x="0" y="387"/>
                  </a:moveTo>
                  <a:lnTo>
                    <a:pt x="391" y="1161"/>
                  </a:lnTo>
                  <a:lnTo>
                    <a:pt x="778" y="774"/>
                  </a:lnTo>
                  <a:lnTo>
                    <a:pt x="387" y="0"/>
                  </a:lnTo>
                  <a:lnTo>
                    <a:pt x="0" y="38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11"/>
            <p:cNvSpPr/>
            <p:nvPr/>
          </p:nvSpPr>
          <p:spPr>
            <a:xfrm>
              <a:off x="552600" y="4598640"/>
              <a:ext cx="3713040" cy="1228680"/>
            </a:xfrm>
            <a:custGeom>
              <a:avLst/>
              <a:gdLst>
                <a:gd name="textAreaLeft" fmla="*/ 0 w 3713040"/>
                <a:gd name="textAreaRight" fmla="*/ 3713400 w 3713040"/>
                <a:gd name="textAreaTop" fmla="*/ 0 h 1228680"/>
                <a:gd name="textAreaBottom" fmla="*/ 1229040 h 1228680"/>
              </a:gdLst>
              <a:ahLst/>
              <a:rect l="textAreaLeft" t="textAreaTop" r="textAreaRight" b="textAreaBottom"/>
              <a:pathLst>
                <a:path w="2339" h="774">
                  <a:moveTo>
                    <a:pt x="387" y="0"/>
                  </a:moveTo>
                  <a:lnTo>
                    <a:pt x="1948" y="0"/>
                  </a:lnTo>
                  <a:lnTo>
                    <a:pt x="2339" y="774"/>
                  </a:lnTo>
                  <a:lnTo>
                    <a:pt x="0" y="774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2"/>
            <p:cNvSpPr/>
            <p:nvPr/>
          </p:nvSpPr>
          <p:spPr>
            <a:xfrm>
              <a:off x="552600" y="4598640"/>
              <a:ext cx="3713040" cy="1228680"/>
            </a:xfrm>
            <a:custGeom>
              <a:avLst/>
              <a:gdLst>
                <a:gd name="textAreaLeft" fmla="*/ 0 w 3713040"/>
                <a:gd name="textAreaRight" fmla="*/ 3713400 w 3713040"/>
                <a:gd name="textAreaTop" fmla="*/ 0 h 1228680"/>
                <a:gd name="textAreaBottom" fmla="*/ 1229040 h 1228680"/>
              </a:gdLst>
              <a:ahLst/>
              <a:rect l="textAreaLeft" t="textAreaTop" r="textAreaRight" b="textAreaBottom"/>
              <a:pathLst>
                <a:path w="2339" h="774">
                  <a:moveTo>
                    <a:pt x="387" y="0"/>
                  </a:moveTo>
                  <a:lnTo>
                    <a:pt x="1948" y="0"/>
                  </a:lnTo>
                  <a:lnTo>
                    <a:pt x="2339" y="774"/>
                  </a:lnTo>
                  <a:lnTo>
                    <a:pt x="0" y="774"/>
                  </a:lnTo>
                  <a:lnTo>
                    <a:pt x="387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13"/>
            <p:cNvSpPr/>
            <p:nvPr/>
          </p:nvSpPr>
          <p:spPr>
            <a:xfrm>
              <a:off x="1136160" y="4858920"/>
              <a:ext cx="2556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fety Guide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" name="Group 14"/>
          <p:cNvGrpSpPr/>
          <p:nvPr/>
        </p:nvGrpSpPr>
        <p:grpSpPr>
          <a:xfrm>
            <a:off x="491400" y="2549520"/>
            <a:ext cx="3722400" cy="1843200"/>
            <a:chOff x="491400" y="2549520"/>
            <a:chExt cx="3722400" cy="1843200"/>
          </a:xfrm>
        </p:grpSpPr>
        <p:sp>
          <p:nvSpPr>
            <p:cNvPr id="112" name="Freeform 15"/>
            <p:cNvSpPr/>
            <p:nvPr/>
          </p:nvSpPr>
          <p:spPr>
            <a:xfrm>
              <a:off x="1717560" y="2549520"/>
              <a:ext cx="1855800" cy="614520"/>
            </a:xfrm>
            <a:custGeom>
              <a:avLst/>
              <a:gdLst>
                <a:gd name="textAreaLeft" fmla="*/ 0 w 1855800"/>
                <a:gd name="textAreaRight" fmla="*/ 1855800 w 1855800"/>
                <a:gd name="textAreaTop" fmla="*/ 0 h 614520"/>
                <a:gd name="textAreaBottom" fmla="*/ 614880 h 614520"/>
              </a:gdLst>
              <a:ahLst/>
              <a:rect l="textAreaLeft" t="textAreaTop" r="textAreaRight" b="textAreaBottom"/>
              <a:pathLst>
                <a:path w="1169" h="387">
                  <a:moveTo>
                    <a:pt x="0" y="387"/>
                  </a:moveTo>
                  <a:lnTo>
                    <a:pt x="782" y="387"/>
                  </a:lnTo>
                  <a:lnTo>
                    <a:pt x="1169" y="0"/>
                  </a:lnTo>
                  <a:lnTo>
                    <a:pt x="387" y="0"/>
                  </a:lnTo>
                  <a:lnTo>
                    <a:pt x="0" y="387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16"/>
            <p:cNvSpPr/>
            <p:nvPr/>
          </p:nvSpPr>
          <p:spPr>
            <a:xfrm>
              <a:off x="1717560" y="2549520"/>
              <a:ext cx="1855800" cy="614520"/>
            </a:xfrm>
            <a:custGeom>
              <a:avLst/>
              <a:gdLst>
                <a:gd name="textAreaLeft" fmla="*/ 0 w 1855800"/>
                <a:gd name="textAreaRight" fmla="*/ 1855800 w 1855800"/>
                <a:gd name="textAreaTop" fmla="*/ 0 h 614520"/>
                <a:gd name="textAreaBottom" fmla="*/ 614880 h 614520"/>
              </a:gdLst>
              <a:ahLst/>
              <a:rect l="textAreaLeft" t="textAreaTop" r="textAreaRight" b="textAreaBottom"/>
              <a:pathLst>
                <a:path w="1169" h="387">
                  <a:moveTo>
                    <a:pt x="0" y="387"/>
                  </a:moveTo>
                  <a:lnTo>
                    <a:pt x="782" y="387"/>
                  </a:lnTo>
                  <a:lnTo>
                    <a:pt x="1169" y="0"/>
                  </a:lnTo>
                  <a:lnTo>
                    <a:pt x="387" y="0"/>
                  </a:lnTo>
                  <a:lnTo>
                    <a:pt x="0" y="38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17"/>
            <p:cNvSpPr/>
            <p:nvPr/>
          </p:nvSpPr>
          <p:spPr>
            <a:xfrm>
              <a:off x="2959200" y="2549520"/>
              <a:ext cx="1236600" cy="1843200"/>
            </a:xfrm>
            <a:custGeom>
              <a:avLst/>
              <a:gdLst>
                <a:gd name="textAreaLeft" fmla="*/ 0 w 1236600"/>
                <a:gd name="textAreaRight" fmla="*/ 1236960 w 1236600"/>
                <a:gd name="textAreaTop" fmla="*/ 0 h 1843200"/>
                <a:gd name="textAreaBottom" fmla="*/ 1843560 h 1843200"/>
              </a:gdLst>
              <a:ahLst/>
              <a:rect l="textAreaLeft" t="textAreaTop" r="textAreaRight" b="textAreaBottom"/>
              <a:pathLst>
                <a:path w="779" h="1161">
                  <a:moveTo>
                    <a:pt x="0" y="387"/>
                  </a:moveTo>
                  <a:lnTo>
                    <a:pt x="392" y="1161"/>
                  </a:lnTo>
                  <a:lnTo>
                    <a:pt x="779" y="774"/>
                  </a:lnTo>
                  <a:lnTo>
                    <a:pt x="387" y="0"/>
                  </a:lnTo>
                  <a:lnTo>
                    <a:pt x="0" y="387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18"/>
            <p:cNvSpPr/>
            <p:nvPr/>
          </p:nvSpPr>
          <p:spPr>
            <a:xfrm>
              <a:off x="2959200" y="2549520"/>
              <a:ext cx="1236600" cy="1843200"/>
            </a:xfrm>
            <a:custGeom>
              <a:avLst/>
              <a:gdLst>
                <a:gd name="textAreaLeft" fmla="*/ 0 w 1236600"/>
                <a:gd name="textAreaRight" fmla="*/ 1236960 w 1236600"/>
                <a:gd name="textAreaTop" fmla="*/ 0 h 1843200"/>
                <a:gd name="textAreaBottom" fmla="*/ 1843560 h 1843200"/>
              </a:gdLst>
              <a:ahLst/>
              <a:rect l="textAreaLeft" t="textAreaTop" r="textAreaRight" b="textAreaBottom"/>
              <a:pathLst>
                <a:path w="779" h="1161">
                  <a:moveTo>
                    <a:pt x="0" y="387"/>
                  </a:moveTo>
                  <a:lnTo>
                    <a:pt x="392" y="1161"/>
                  </a:lnTo>
                  <a:lnTo>
                    <a:pt x="779" y="774"/>
                  </a:lnTo>
                  <a:lnTo>
                    <a:pt x="387" y="0"/>
                  </a:lnTo>
                  <a:lnTo>
                    <a:pt x="0" y="38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19"/>
            <p:cNvSpPr/>
            <p:nvPr/>
          </p:nvSpPr>
          <p:spPr>
            <a:xfrm>
              <a:off x="1103400" y="3164040"/>
              <a:ext cx="2478240" cy="1228680"/>
            </a:xfrm>
            <a:custGeom>
              <a:avLst/>
              <a:gdLst>
                <a:gd name="textAreaLeft" fmla="*/ 0 w 2478240"/>
                <a:gd name="textAreaRight" fmla="*/ 2478600 w 2478240"/>
                <a:gd name="textAreaTop" fmla="*/ 0 h 1228680"/>
                <a:gd name="textAreaBottom" fmla="*/ 1229040 h 1228680"/>
              </a:gdLst>
              <a:ahLst/>
              <a:rect l="textAreaLeft" t="textAreaTop" r="textAreaRight" b="textAreaBottom"/>
              <a:pathLst>
                <a:path w="1561" h="774">
                  <a:moveTo>
                    <a:pt x="387" y="0"/>
                  </a:moveTo>
                  <a:lnTo>
                    <a:pt x="1169" y="0"/>
                  </a:lnTo>
                  <a:lnTo>
                    <a:pt x="1561" y="774"/>
                  </a:lnTo>
                  <a:lnTo>
                    <a:pt x="0" y="774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20"/>
            <p:cNvSpPr/>
            <p:nvPr/>
          </p:nvSpPr>
          <p:spPr>
            <a:xfrm>
              <a:off x="1103400" y="3164040"/>
              <a:ext cx="2478240" cy="1228680"/>
            </a:xfrm>
            <a:custGeom>
              <a:avLst/>
              <a:gdLst>
                <a:gd name="textAreaLeft" fmla="*/ 0 w 2478240"/>
                <a:gd name="textAreaRight" fmla="*/ 2478600 w 2478240"/>
                <a:gd name="textAreaTop" fmla="*/ 0 h 1228680"/>
                <a:gd name="textAreaBottom" fmla="*/ 1229040 h 1228680"/>
              </a:gdLst>
              <a:ahLst/>
              <a:rect l="textAreaLeft" t="textAreaTop" r="textAreaRight" b="textAreaBottom"/>
              <a:pathLst>
                <a:path w="1561" h="774">
                  <a:moveTo>
                    <a:pt x="387" y="0"/>
                  </a:moveTo>
                  <a:lnTo>
                    <a:pt x="1169" y="0"/>
                  </a:lnTo>
                  <a:lnTo>
                    <a:pt x="1561" y="774"/>
                  </a:lnTo>
                  <a:lnTo>
                    <a:pt x="0" y="774"/>
                  </a:lnTo>
                  <a:lnTo>
                    <a:pt x="387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21"/>
            <p:cNvSpPr/>
            <p:nvPr/>
          </p:nvSpPr>
          <p:spPr>
            <a:xfrm>
              <a:off x="491400" y="3449880"/>
              <a:ext cx="372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fety Requirement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Group 22"/>
          <p:cNvGrpSpPr/>
          <p:nvPr/>
        </p:nvGrpSpPr>
        <p:grpSpPr>
          <a:xfrm>
            <a:off x="398520" y="1125360"/>
            <a:ext cx="3760200" cy="1864080"/>
            <a:chOff x="398520" y="1125360"/>
            <a:chExt cx="3760200" cy="1864080"/>
          </a:xfrm>
        </p:grpSpPr>
        <p:sp>
          <p:nvSpPr>
            <p:cNvPr id="120" name="Freeform 23"/>
            <p:cNvSpPr/>
            <p:nvPr/>
          </p:nvSpPr>
          <p:spPr>
            <a:xfrm>
              <a:off x="2266920" y="1125360"/>
              <a:ext cx="1209960" cy="1864080"/>
            </a:xfrm>
            <a:custGeom>
              <a:avLst/>
              <a:gdLst>
                <a:gd name="textAreaLeft" fmla="*/ 0 w 1209960"/>
                <a:gd name="textAreaRight" fmla="*/ 1210320 w 1209960"/>
                <a:gd name="textAreaTop" fmla="*/ 0 h 1864080"/>
                <a:gd name="textAreaBottom" fmla="*/ 1864440 h 1864080"/>
              </a:gdLst>
              <a:ahLst/>
              <a:rect l="textAreaLeft" t="textAreaTop" r="textAreaRight" b="textAreaBottom"/>
              <a:pathLst>
                <a:path w="778" h="1174">
                  <a:moveTo>
                    <a:pt x="0" y="387"/>
                  </a:moveTo>
                  <a:lnTo>
                    <a:pt x="391" y="1174"/>
                  </a:lnTo>
                  <a:lnTo>
                    <a:pt x="778" y="787"/>
                  </a:lnTo>
                  <a:lnTo>
                    <a:pt x="383" y="0"/>
                  </a:lnTo>
                  <a:lnTo>
                    <a:pt x="0" y="38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24"/>
            <p:cNvSpPr/>
            <p:nvPr/>
          </p:nvSpPr>
          <p:spPr>
            <a:xfrm>
              <a:off x="2266920" y="1125360"/>
              <a:ext cx="1209960" cy="1864080"/>
            </a:xfrm>
            <a:custGeom>
              <a:avLst/>
              <a:gdLst>
                <a:gd name="textAreaLeft" fmla="*/ 0 w 1209960"/>
                <a:gd name="textAreaRight" fmla="*/ 1210320 w 1209960"/>
                <a:gd name="textAreaTop" fmla="*/ 0 h 1864080"/>
                <a:gd name="textAreaBottom" fmla="*/ 1864440 h 1864080"/>
              </a:gdLst>
              <a:ahLst/>
              <a:rect l="textAreaLeft" t="textAreaTop" r="textAreaRight" b="textAreaBottom"/>
              <a:pathLst>
                <a:path w="778" h="1174">
                  <a:moveTo>
                    <a:pt x="0" y="387"/>
                  </a:moveTo>
                  <a:lnTo>
                    <a:pt x="391" y="1174"/>
                  </a:lnTo>
                  <a:lnTo>
                    <a:pt x="778" y="787"/>
                  </a:lnTo>
                  <a:lnTo>
                    <a:pt x="383" y="0"/>
                  </a:lnTo>
                  <a:lnTo>
                    <a:pt x="0" y="38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25"/>
            <p:cNvSpPr/>
            <p:nvPr/>
          </p:nvSpPr>
          <p:spPr>
            <a:xfrm>
              <a:off x="1658160" y="1739880"/>
              <a:ext cx="1216800" cy="124956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1249560"/>
                <a:gd name="textAreaBottom" fmla="*/ 1249920 h 1249560"/>
              </a:gdLst>
              <a:ahLst/>
              <a:rect l="textAreaLeft" t="textAreaTop" r="textAreaRight" b="textAreaBottom"/>
              <a:pathLst>
                <a:path w="782" h="787">
                  <a:moveTo>
                    <a:pt x="391" y="0"/>
                  </a:moveTo>
                  <a:lnTo>
                    <a:pt x="782" y="787"/>
                  </a:lnTo>
                  <a:lnTo>
                    <a:pt x="0" y="787"/>
                  </a:lnTo>
                  <a:lnTo>
                    <a:pt x="391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26"/>
            <p:cNvSpPr/>
            <p:nvPr/>
          </p:nvSpPr>
          <p:spPr>
            <a:xfrm>
              <a:off x="1658160" y="1739880"/>
              <a:ext cx="1216800" cy="124956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1249560"/>
                <a:gd name="textAreaBottom" fmla="*/ 1249920 h 1249560"/>
              </a:gdLst>
              <a:ahLst/>
              <a:rect l="textAreaLeft" t="textAreaTop" r="textAreaRight" b="textAreaBottom"/>
              <a:pathLst>
                <a:path w="782" h="787">
                  <a:moveTo>
                    <a:pt x="391" y="0"/>
                  </a:moveTo>
                  <a:lnTo>
                    <a:pt x="782" y="787"/>
                  </a:lnTo>
                  <a:lnTo>
                    <a:pt x="0" y="787"/>
                  </a:lnTo>
                  <a:lnTo>
                    <a:pt x="391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27"/>
            <p:cNvSpPr/>
            <p:nvPr/>
          </p:nvSpPr>
          <p:spPr>
            <a:xfrm>
              <a:off x="398520" y="2065320"/>
              <a:ext cx="3760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fety Fundamental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Text Box 28"/>
          <p:cNvSpPr/>
          <p:nvPr/>
        </p:nvSpPr>
        <p:spPr>
          <a:xfrm>
            <a:off x="5067360" y="4419720"/>
            <a:ext cx="3593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ference for a High Level of Nuclear Saf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29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171756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78920" cy="1158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539640" y="184428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afety Fundament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 </a:t>
            </a:r>
            <a:r>
              <a:rPr b="0" lang="en-US" sz="2000" spc="-1" strike="noStrike">
                <a:solidFill>
                  <a:srgbClr val="410082"/>
                </a:solidFill>
                <a:latin typeface="Book Antiqua"/>
              </a:rPr>
              <a:t>must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r every installation or activity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afety Requirement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0082"/>
                </a:solidFill>
                <a:latin typeface="Book Antiqua"/>
              </a:rPr>
              <a:t>Functional conditions required for safety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table - but periodic review and revision if necessary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afety Guid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0082"/>
                </a:solidFill>
                <a:latin typeface="Book Antiqua"/>
              </a:rPr>
              <a:t>Guidance to fulfill the requirement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User-friendly and up-to-date practical guidance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epresenting good/best practice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79280" y="692280"/>
            <a:ext cx="8534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9c2d1"/>
                </a:solidFill>
                <a:latin typeface="Arial"/>
              </a:rPr>
              <a:t>Fundamental Safety Princi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282600" y="1701720"/>
            <a:ext cx="8593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inciple 1: Responsibility for Safe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inciple 2: Role of Govern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inciple 3: Leadership and Management for safe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inciple 4: Justification of facilities and activ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inciple 5: Optimization of 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inciple 6: Limitation of risk to individual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inciple 7: Protection of present and future gene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inciple 8: Prevention of acci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inciple 9: Emergency preparedness and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inciple 10: Protective actions to reduce existing of unregulated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radiation ri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>
            <a:off x="6659640" y="1773360"/>
            <a:ext cx="191448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7093080" y="765000"/>
            <a:ext cx="1833480" cy="2416320"/>
          </a:xfrm>
          <a:prstGeom prst="rect">
            <a:avLst/>
          </a:prstGeom>
          <a:ln w="0">
            <a:noFill/>
          </a:ln>
        </p:spPr>
      </p:pic>
      <p:pic>
        <p:nvPicPr>
          <p:cNvPr id="135" name="Rectangle 3" descr=""/>
          <p:cNvPicPr/>
          <p:nvPr/>
        </p:nvPicPr>
        <p:blipFill>
          <a:blip r:embed="rId2"/>
          <a:stretch/>
        </p:blipFill>
        <p:spPr>
          <a:xfrm>
            <a:off x="237960" y="-66600"/>
            <a:ext cx="8545680" cy="125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Object 4"/>
          <p:cNvGraphicFramePr/>
          <p:nvPr/>
        </p:nvGraphicFramePr>
        <p:xfrm>
          <a:off x="1035000" y="2982960"/>
          <a:ext cx="7074000" cy="175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5000" y="2982960"/>
                    <a:ext cx="7074000" cy="17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09:37:08Z</dcterms:created>
  <dc:creator>CARNINO</dc:creator>
  <dc:description/>
  <dc:language>en-US</dc:language>
  <cp:lastModifiedBy>home</cp:lastModifiedBy>
  <dcterms:modified xsi:type="dcterms:W3CDTF">2012-03-05T09:28:20Z</dcterms:modified>
  <cp:revision>25</cp:revision>
  <dc:subject/>
  <dc:title>IAEA SAFETY STANDARDS</dc:title>
</cp:coreProperties>
</file>