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42F-0900-44A1-8B86-A0123EFA5C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ABC-B210-4223-99D0-BD40BF9EFB3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075-400A-4585-8C81-2D66955A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3AF-DAC0-40DC-B8D2-460FC89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F44-16D4-4A28-BFAA-8F2E3180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C6E-C022-46B8-955F-C37B93E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9F3-08FD-40BC-8B1C-F1D8C950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B6AC-DEF3-4567-93BE-C66C585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9D8-DC64-49F2-920A-01FE9344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3FCA-E5B4-4D0A-BEB9-B9104FF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56B5-1264-463E-AD63-8D00AD1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BD3F-D0D9-4538-B2C2-B9A905F9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6875-E6B3-4A4E-9077-4EF8E41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55C-0617-4296-AC87-D55A196D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4C01-24A7-4434-9403-879107C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D7E-8F86-49F5-8BAA-CF2D7FC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3628-6BF4-44E6-BF0A-2A171CC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0E44-10FA-4577-9258-CCB7AE8F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FD5-4486-4944-BAE5-E9BB6F4F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8F0-3574-45FB-B30A-91BE87A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ACD-5BBD-4D38-93FE-B117F93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C7A-590A-4E37-A497-3538884E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EB1-58B8-47A7-99DC-D1C8E8AF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ACC-BBB9-4F23-ACC4-E6D5AE0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374-8738-4E08-8F13-8C2C799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1F1-EA12-46AE-BCF7-DC20DEE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D00-7DF2-41E0-A522-6F6CE198354D}" type="slidenum">
              <a:rPr b="0" lang="fr-F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F6F-7111-4E52-B5F4-0A287D6563DB}" type="slidenum">
              <a:rPr b="0" lang="fr-F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189000" y="1365120"/>
            <a:ext cx="9077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By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Annick Carnin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(former Director of IAEA Division of Nuclear Installations Safety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PIME, February 13- 15, 201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164360" y="1557360"/>
            <a:ext cx="1584360" cy="25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68360" y="1064880"/>
            <a:ext cx="505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8. The objective of this publication is to define requirements fo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stablishing, implementing, assessing and continually improving a managemen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system that integrates safety, health, environmental, security, quality a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conomic elements to ensure that safety is properly taken into account in al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the activities of an organiz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9. The main objective of the requirements for the management system is 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nsure, by considering the implications of all actions not within separat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management systems but with regard to safety as a whole, that safety is no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compromise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76360" y="189000"/>
            <a:ext cx="6048360" cy="647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ample on Safe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953080" cy="43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186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7800" y="187200"/>
            <a:ext cx="8534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Safety Analysis Methodolo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7"/>
          <p:cNvGraphicFramePr/>
          <p:nvPr/>
        </p:nvGraphicFramePr>
        <p:xfrm>
          <a:off x="324000" y="717480"/>
          <a:ext cx="8640720" cy="6091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17480"/>
                    <a:ext cx="864072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2d1"/>
                </a:solidFill>
                <a:latin typeface="Arial"/>
              </a:rPr>
              <a:t>Levels of Defence-In-Dep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1125360"/>
          <a:ext cx="7561080" cy="5340600"/>
        </p:xfrm>
        <a:graphic>
          <a:graphicData uri="http://schemas.openxmlformats.org/drawingml/2006/table">
            <a:tbl>
              <a:tblPr/>
              <a:tblGrid>
                <a:gridCol w="1700280"/>
                <a:gridCol w="3024000"/>
                <a:gridCol w="28368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s o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nce-in-dep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ntial means 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ing the objec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ention of abnormal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fail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rvative design an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quality in co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abnormal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detection of fail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, limiting and protection systems and systems and other surveillance feat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accidents within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 ba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ineered safety features and accident proced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severe plant conditions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ing prevention of accid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ion and mitigation of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quences of severe acci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ary measures and accident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igation of radiolog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quences of signific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eases of radioactive materi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f-site emergency respon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International Nuclear Safety Conven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Obligations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 based on the first version of the safety fundament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Objectives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achieve and maintain a high level of nuclear safety worldwide..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protect individuals, society and the environment from harmful effect of ionizing radiation…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prevent accidents with radiological consequences and to mitigate such consequences should they occu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3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The Convention applies to “the safety of nuclear installations” (civil and land-based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Each Contracting Party shall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ensure that the safety of nuclear installations is reviewed as soon as possible..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- ensure that all reasonably practical improvements are made to upgrade the safety of the nuclear installation..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- shut down the nuclear installation as soon as practically possible, if such upgrading cannot be achieved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r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81880" cy="5468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1 of the 72 Contracting Parties particip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 CP did not submit a national report and 11 did not particip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cial statement on Fukushima was ma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pecial meeting was decided for next year on reviewing and sharing the lessons learned and on actions taken by C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r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uclear power plant design against external event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f site response to emergency situations (e.g. station blackout)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ergency management and preparedness following worst cas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afety consideration for operation of multi-units at the same Nuclear Power Plant site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Cooling  of spent fuel storage in sever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of Nuclear Power Plant operators for sever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diological monitoring following Nuclear Power Plant accident involving radiological release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protection emergency action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Communications in emergency situation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Why Having Safety Standar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V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Safety Review Servic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Preparatory meeting one year befo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Designation of IAEA team leader and selection of the « peer experts » from different countr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On site review starting with team bonding and training,standards to be u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Every day discussion of the findings and recommendations, suggestions and presentation to the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First report given to the installation managers and presentation to the personnel (exit meeting in presence of Regulato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Two years later on site review of the recommendations implemen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36680" y="5037120"/>
            <a:ext cx="5054760" cy="1556280"/>
          </a:xfrm>
          <a:prstGeom prst="rect">
            <a:avLst/>
          </a:prstGeom>
          <a:gradFill rotWithShape="0">
            <a:gsLst>
              <a:gs pos="0">
                <a:srgbClr val="b0dcdc"/>
              </a:gs>
              <a:gs pos="50000">
                <a:srgbClr val="ccffff"/>
              </a:gs>
              <a:gs pos="100000">
                <a:srgbClr val="b0d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ndara"/>
              </a:rPr>
              <a:t>Safety Review Services based on IAEA Safety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4905360" y="2081160"/>
            <a:ext cx="1459080" cy="2803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916520" y="2876040"/>
            <a:ext cx="3068640" cy="2008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V="1">
            <a:off x="4924440" y="2854440"/>
            <a:ext cx="185760" cy="20001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2523960" y="2873160"/>
            <a:ext cx="2392560" cy="201132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 flipH="1" flipV="1">
            <a:off x="1910880" y="3658680"/>
            <a:ext cx="2994120" cy="12272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905360" y="3637080"/>
            <a:ext cx="704880" cy="12477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H="1" flipV="1">
            <a:off x="953640" y="2081160"/>
            <a:ext cx="3932280" cy="2773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H="1" flipV="1">
            <a:off x="3096720" y="2077920"/>
            <a:ext cx="1809720" cy="27957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Rectangle 11" descr=""/>
          <p:cNvPicPr/>
          <p:nvPr/>
        </p:nvPicPr>
        <p:blipFill>
          <a:blip r:embed="rId1"/>
          <a:stretch/>
        </p:blipFill>
        <p:spPr>
          <a:xfrm>
            <a:off x="390600" y="0"/>
            <a:ext cx="8393040" cy="1255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2"/>
          <p:cNvSpPr/>
          <p:nvPr/>
        </p:nvSpPr>
        <p:spPr>
          <a:xfrm>
            <a:off x="166680" y="1622520"/>
            <a:ext cx="1438200" cy="3988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1650960" y="1670040"/>
            <a:ext cx="2761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963800" y="1622520"/>
            <a:ext cx="2179440" cy="4291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Site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211640" y="1670040"/>
            <a:ext cx="2858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6954840" y="2405160"/>
            <a:ext cx="2013120" cy="8254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 flipH="1">
            <a:off x="6177960" y="2451240"/>
            <a:ext cx="725400" cy="360360"/>
          </a:xfrm>
          <a:prstGeom prst="rightArrow">
            <a:avLst>
              <a:gd name="adj1" fmla="val 50000"/>
              <a:gd name="adj2" fmla="val 50325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90600" y="3195720"/>
            <a:ext cx="2970000" cy="7642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Pre-decommissio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3408480" y="3227400"/>
            <a:ext cx="772920" cy="360360"/>
          </a:xfrm>
          <a:prstGeom prst="rightArrow">
            <a:avLst>
              <a:gd name="adj1" fmla="val 50000"/>
              <a:gd name="adj2" fmla="val 5362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194000" y="3195720"/>
            <a:ext cx="296892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Decommiss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1"/>
          <p:cNvSpPr/>
          <p:nvPr/>
        </p:nvSpPr>
        <p:spPr>
          <a:xfrm rot="10800000">
            <a:off x="891720" y="2565360"/>
            <a:ext cx="592200" cy="565200"/>
          </a:xfrm>
          <a:custGeom>
            <a:avLst/>
            <a:gdLst>
              <a:gd name="textAreaLeft" fmla="*/ 0 w 592200"/>
              <a:gd name="textAreaRight" fmla="*/ 507600 w 592200"/>
              <a:gd name="textAreaTop" fmla="*/ 376920 h 565200"/>
              <a:gd name="textAreaBottom" fmla="*/ 565560 h 565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12720" y="2405160"/>
            <a:ext cx="182880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3"/>
          <p:cNvSpPr/>
          <p:nvPr/>
        </p:nvSpPr>
        <p:spPr>
          <a:xfrm flipH="1">
            <a:off x="3375720" y="2451240"/>
            <a:ext cx="676440" cy="360360"/>
          </a:xfrm>
          <a:prstGeom prst="rightArrow">
            <a:avLst>
              <a:gd name="adj1" fmla="val 50000"/>
              <a:gd name="adj2" fmla="val 46928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4102200" y="2405160"/>
            <a:ext cx="2060640" cy="7642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Commissio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5"/>
          <p:cNvSpPr/>
          <p:nvPr/>
        </p:nvSpPr>
        <p:spPr>
          <a:xfrm flipH="1" rot="10800000">
            <a:off x="8055000" y="1771200"/>
            <a:ext cx="603360" cy="576360"/>
          </a:xfrm>
          <a:custGeom>
            <a:avLst/>
            <a:gdLst>
              <a:gd name="textAreaLeft" fmla="*/ 360 w 603360"/>
              <a:gd name="textAreaRight" fmla="*/ 517680 w 603360"/>
              <a:gd name="textAreaTop" fmla="*/ 38448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4500720" y="1628640"/>
            <a:ext cx="347184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Safety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94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0920" y="1699920"/>
            <a:ext cx="6218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gulatory Framework and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IR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Integrated Regulatory Review Serv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perational Safe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OSAR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– Operational Safety Review Te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EDO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Safety Evaluation of Fuel Cycle Facilities During Ope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CAR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– Safety Culture Assessment Review Te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Picture 4" descr="CONTROL PANEL"/>
          <p:cNvPicPr/>
          <p:nvPr/>
        </p:nvPicPr>
        <p:blipFill>
          <a:blip r:embed="rId2"/>
          <a:stretch/>
        </p:blipFill>
        <p:spPr>
          <a:xfrm>
            <a:off x="179280" y="1125360"/>
            <a:ext cx="1778040" cy="16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XPERTS"/>
          <p:cNvPicPr/>
          <p:nvPr/>
        </p:nvPicPr>
        <p:blipFill>
          <a:blip r:embed="rId3"/>
          <a:stretch/>
        </p:blipFill>
        <p:spPr>
          <a:xfrm>
            <a:off x="179280" y="278136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training"/>
          <p:cNvPicPr/>
          <p:nvPr/>
        </p:nvPicPr>
        <p:blipFill>
          <a:blip r:embed="rId4"/>
          <a:stretch/>
        </p:blipFill>
        <p:spPr>
          <a:xfrm>
            <a:off x="179280" y="4076640"/>
            <a:ext cx="1803600" cy="1352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Fuel Rod inspection Mox, Bagnol, FRA"/>
          <p:cNvPicPr/>
          <p:nvPr/>
        </p:nvPicPr>
        <p:blipFill>
          <a:blip r:embed="rId5"/>
          <a:stretch/>
        </p:blipFill>
        <p:spPr>
          <a:xfrm>
            <a:off x="179280" y="5373720"/>
            <a:ext cx="180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843280" y="162864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search Reac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INSAR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Integrated Safety Assessment of Research React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Engineering and Technical Safe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afety Assessment Servic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Engineering/Safety Assessment Review Ser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Picture 4" descr="CONTROL PANEL"/>
          <p:cNvPicPr/>
          <p:nvPr/>
        </p:nvPicPr>
        <p:blipFill>
          <a:blip r:embed="rId2"/>
          <a:stretch/>
        </p:blipFill>
        <p:spPr>
          <a:xfrm>
            <a:off x="250920" y="1268280"/>
            <a:ext cx="1778040" cy="136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eXPERTS"/>
          <p:cNvPicPr/>
          <p:nvPr/>
        </p:nvPicPr>
        <p:blipFill>
          <a:blip r:embed="rId3"/>
          <a:stretch/>
        </p:blipFill>
        <p:spPr>
          <a:xfrm>
            <a:off x="250920" y="263700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training"/>
          <p:cNvPicPr/>
          <p:nvPr/>
        </p:nvPicPr>
        <p:blipFill>
          <a:blip r:embed="rId4"/>
          <a:stretch/>
        </p:blipFill>
        <p:spPr>
          <a:xfrm>
            <a:off x="250920" y="4005360"/>
            <a:ext cx="180324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Fuel Rod inspection Mox, Bagnol, FRA"/>
          <p:cNvPicPr/>
          <p:nvPr/>
        </p:nvPicPr>
        <p:blipFill>
          <a:blip r:embed="rId5"/>
          <a:stretch/>
        </p:blipFill>
        <p:spPr>
          <a:xfrm>
            <a:off x="250920" y="5300640"/>
            <a:ext cx="180000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Member States asked the IAE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to address issues related to nuclear safety, emergency preparedness and response and radiation protection of people and the environment, as well as the international legal framework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to strengthen nuclear Safety Standards; to systematically review the safety of all nuclear power plants, including by expanding the IAEA's programme of expert peer reviews; to enhance the effectiveness of national nuclear regulatory bodies and ensure their independence; to strengthen the global emergency preparedness and response system; and to expand the Agency's role in receiving and disseminating informatio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Harmonization of safety to higher leve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vision processes for new knowledge and experience feedba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ferences for Conven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ferences for peer safety revi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Basis for Legislations and Regulations in countries starting nuclear program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Statute of IA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« …to establish or adopt …standards of safety for the protection of health and minimization of danger to life and property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« and to provide for the application of these standards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IAEA Safety Standar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2d1"/>
                </a:solidFill>
                <a:latin typeface="Arial"/>
              </a:rPr>
              <a:t>Safety Standard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552600" y="3984480"/>
            <a:ext cx="4326840" cy="1842840"/>
            <a:chOff x="552600" y="3984480"/>
            <a:chExt cx="4326840" cy="1842840"/>
          </a:xfrm>
        </p:grpSpPr>
        <p:sp>
          <p:nvSpPr>
            <p:cNvPr id="104" name="Freeform 7"/>
            <p:cNvSpPr/>
            <p:nvPr/>
          </p:nvSpPr>
          <p:spPr>
            <a:xfrm>
              <a:off x="1166760" y="3984480"/>
              <a:ext cx="3092040" cy="61416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948" h="387">
                  <a:moveTo>
                    <a:pt x="0" y="387"/>
                  </a:moveTo>
                  <a:lnTo>
                    <a:pt x="1561" y="387"/>
                  </a:lnTo>
                  <a:lnTo>
                    <a:pt x="1948" y="0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1166760" y="3984480"/>
              <a:ext cx="3092040" cy="61416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948" h="387">
                  <a:moveTo>
                    <a:pt x="0" y="387"/>
                  </a:moveTo>
                  <a:lnTo>
                    <a:pt x="1561" y="387"/>
                  </a:lnTo>
                  <a:lnTo>
                    <a:pt x="1948" y="0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3645000" y="3984480"/>
              <a:ext cx="1234440" cy="1842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778" h="1161">
                  <a:moveTo>
                    <a:pt x="0" y="387"/>
                  </a:moveTo>
                  <a:lnTo>
                    <a:pt x="391" y="1161"/>
                  </a:lnTo>
                  <a:lnTo>
                    <a:pt x="778" y="774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3645000" y="3984480"/>
              <a:ext cx="1234440" cy="1842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778" h="1161">
                  <a:moveTo>
                    <a:pt x="0" y="387"/>
                  </a:moveTo>
                  <a:lnTo>
                    <a:pt x="391" y="1161"/>
                  </a:lnTo>
                  <a:lnTo>
                    <a:pt x="778" y="774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552600" y="4598640"/>
              <a:ext cx="3713040" cy="1228680"/>
            </a:xfrm>
            <a:custGeom>
              <a:avLst/>
              <a:gdLst>
                <a:gd name="textAreaLeft" fmla="*/ 0 w 3713040"/>
                <a:gd name="textAreaRight" fmla="*/ 3713400 w 37130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339" h="774">
                  <a:moveTo>
                    <a:pt x="387" y="0"/>
                  </a:moveTo>
                  <a:lnTo>
                    <a:pt x="1948" y="0"/>
                  </a:lnTo>
                  <a:lnTo>
                    <a:pt x="2339" y="774"/>
                  </a:lnTo>
                  <a:lnTo>
                    <a:pt x="0" y="774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552600" y="4598640"/>
              <a:ext cx="3713040" cy="1228680"/>
            </a:xfrm>
            <a:custGeom>
              <a:avLst/>
              <a:gdLst>
                <a:gd name="textAreaLeft" fmla="*/ 0 w 3713040"/>
                <a:gd name="textAreaRight" fmla="*/ 3713400 w 37130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339" h="774">
                  <a:moveTo>
                    <a:pt x="387" y="0"/>
                  </a:moveTo>
                  <a:lnTo>
                    <a:pt x="1948" y="0"/>
                  </a:lnTo>
                  <a:lnTo>
                    <a:pt x="2339" y="774"/>
                  </a:lnTo>
                  <a:lnTo>
                    <a:pt x="0" y="774"/>
                  </a:lnTo>
                  <a:lnTo>
                    <a:pt x="38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136160" y="4858920"/>
              <a:ext cx="255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Guid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491400" y="2549520"/>
            <a:ext cx="3722400" cy="1843200"/>
            <a:chOff x="491400" y="2549520"/>
            <a:chExt cx="3722400" cy="1843200"/>
          </a:xfrm>
        </p:grpSpPr>
        <p:sp>
          <p:nvSpPr>
            <p:cNvPr id="112" name="Freeform 15"/>
            <p:cNvSpPr/>
            <p:nvPr/>
          </p:nvSpPr>
          <p:spPr>
            <a:xfrm>
              <a:off x="1717560" y="2549520"/>
              <a:ext cx="1855800" cy="61452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169" h="387">
                  <a:moveTo>
                    <a:pt x="0" y="387"/>
                  </a:moveTo>
                  <a:lnTo>
                    <a:pt x="782" y="387"/>
                  </a:lnTo>
                  <a:lnTo>
                    <a:pt x="1169" y="0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1717560" y="2549520"/>
              <a:ext cx="1855800" cy="61452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169" h="387">
                  <a:moveTo>
                    <a:pt x="0" y="387"/>
                  </a:moveTo>
                  <a:lnTo>
                    <a:pt x="782" y="387"/>
                  </a:lnTo>
                  <a:lnTo>
                    <a:pt x="1169" y="0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2959200" y="2549520"/>
              <a:ext cx="1236600" cy="18432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779" h="1161">
                  <a:moveTo>
                    <a:pt x="0" y="387"/>
                  </a:moveTo>
                  <a:lnTo>
                    <a:pt x="392" y="1161"/>
                  </a:lnTo>
                  <a:lnTo>
                    <a:pt x="779" y="774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2959200" y="2549520"/>
              <a:ext cx="1236600" cy="18432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779" h="1161">
                  <a:moveTo>
                    <a:pt x="0" y="387"/>
                  </a:moveTo>
                  <a:lnTo>
                    <a:pt x="392" y="1161"/>
                  </a:lnTo>
                  <a:lnTo>
                    <a:pt x="779" y="774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1103400" y="3164040"/>
              <a:ext cx="2478240" cy="1228680"/>
            </a:xfrm>
            <a:custGeom>
              <a:avLst/>
              <a:gdLst>
                <a:gd name="textAreaLeft" fmla="*/ 0 w 2478240"/>
                <a:gd name="textAreaRight" fmla="*/ 2478600 w 2478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561" h="774">
                  <a:moveTo>
                    <a:pt x="387" y="0"/>
                  </a:moveTo>
                  <a:lnTo>
                    <a:pt x="1169" y="0"/>
                  </a:lnTo>
                  <a:lnTo>
                    <a:pt x="1561" y="774"/>
                  </a:lnTo>
                  <a:lnTo>
                    <a:pt x="0" y="774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1103400" y="3164040"/>
              <a:ext cx="2478240" cy="1228680"/>
            </a:xfrm>
            <a:custGeom>
              <a:avLst/>
              <a:gdLst>
                <a:gd name="textAreaLeft" fmla="*/ 0 w 2478240"/>
                <a:gd name="textAreaRight" fmla="*/ 2478600 w 2478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561" h="774">
                  <a:moveTo>
                    <a:pt x="387" y="0"/>
                  </a:moveTo>
                  <a:lnTo>
                    <a:pt x="1169" y="0"/>
                  </a:lnTo>
                  <a:lnTo>
                    <a:pt x="1561" y="774"/>
                  </a:lnTo>
                  <a:lnTo>
                    <a:pt x="0" y="774"/>
                  </a:lnTo>
                  <a:lnTo>
                    <a:pt x="38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491400" y="3449880"/>
              <a:ext cx="372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Requiremen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22"/>
          <p:cNvGrpSpPr/>
          <p:nvPr/>
        </p:nvGrpSpPr>
        <p:grpSpPr>
          <a:xfrm>
            <a:off x="398520" y="1125360"/>
            <a:ext cx="3760200" cy="1864080"/>
            <a:chOff x="398520" y="1125360"/>
            <a:chExt cx="3760200" cy="1864080"/>
          </a:xfrm>
        </p:grpSpPr>
        <p:sp>
          <p:nvSpPr>
            <p:cNvPr id="120" name="Freeform 23"/>
            <p:cNvSpPr/>
            <p:nvPr/>
          </p:nvSpPr>
          <p:spPr>
            <a:xfrm>
              <a:off x="2266920" y="1125360"/>
              <a:ext cx="1209960" cy="1864080"/>
            </a:xfrm>
            <a:custGeom>
              <a:avLst/>
              <a:gdLst>
                <a:gd name="textAreaLeft" fmla="*/ 0 w 1209960"/>
                <a:gd name="textAreaRight" fmla="*/ 1210320 w 120996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778" h="1174">
                  <a:moveTo>
                    <a:pt x="0" y="387"/>
                  </a:moveTo>
                  <a:lnTo>
                    <a:pt x="391" y="1174"/>
                  </a:lnTo>
                  <a:lnTo>
                    <a:pt x="778" y="787"/>
                  </a:lnTo>
                  <a:lnTo>
                    <a:pt x="383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4"/>
            <p:cNvSpPr/>
            <p:nvPr/>
          </p:nvSpPr>
          <p:spPr>
            <a:xfrm>
              <a:off x="2266920" y="1125360"/>
              <a:ext cx="1209960" cy="1864080"/>
            </a:xfrm>
            <a:custGeom>
              <a:avLst/>
              <a:gdLst>
                <a:gd name="textAreaLeft" fmla="*/ 0 w 1209960"/>
                <a:gd name="textAreaRight" fmla="*/ 1210320 w 120996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778" h="1174">
                  <a:moveTo>
                    <a:pt x="0" y="387"/>
                  </a:moveTo>
                  <a:lnTo>
                    <a:pt x="391" y="1174"/>
                  </a:lnTo>
                  <a:lnTo>
                    <a:pt x="778" y="787"/>
                  </a:lnTo>
                  <a:lnTo>
                    <a:pt x="383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5"/>
            <p:cNvSpPr/>
            <p:nvPr/>
          </p:nvSpPr>
          <p:spPr>
            <a:xfrm>
              <a:off x="1658160" y="1739880"/>
              <a:ext cx="1216800" cy="12495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782" h="787">
                  <a:moveTo>
                    <a:pt x="391" y="0"/>
                  </a:moveTo>
                  <a:lnTo>
                    <a:pt x="782" y="787"/>
                  </a:lnTo>
                  <a:lnTo>
                    <a:pt x="0" y="78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1658160" y="1739880"/>
              <a:ext cx="1216800" cy="12495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782" h="787">
                  <a:moveTo>
                    <a:pt x="391" y="0"/>
                  </a:moveTo>
                  <a:lnTo>
                    <a:pt x="782" y="787"/>
                  </a:lnTo>
                  <a:lnTo>
                    <a:pt x="0" y="787"/>
                  </a:lnTo>
                  <a:lnTo>
                    <a:pt x="39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>
              <a:off x="398520" y="2065320"/>
              <a:ext cx="376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Fundamental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Text Box 28"/>
          <p:cNvSpPr/>
          <p:nvPr/>
        </p:nvSpPr>
        <p:spPr>
          <a:xfrm>
            <a:off x="5067360" y="4419720"/>
            <a:ext cx="359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erence for a High Level of Nuclear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17175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39640" y="184428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Fundamen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every installation or activ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Requiremen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Functional conditions required for safe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ble - but periodic review and revision if necess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Gu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Guidance to fulfill the requireme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ser-friendly and up-to-date practical guidanc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presenting good/best practic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9c2d1"/>
                </a:solidFill>
                <a:latin typeface="Arial"/>
              </a:rPr>
              <a:t>Fundamental Safety 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82600" y="170172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1: Responsibility fo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2: Role of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3: Leadership and Management fo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4: Justification of facilities and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5: Optimization of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6: Limitation of risk to individual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7: Protection of present and future gen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8: Prevention of acc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9: Emergency preparedness a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10: Protective actions to reduce existing of unregulat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radiation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914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833480" cy="241632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3" descr=""/>
          <p:cNvPicPr/>
          <p:nvPr/>
        </p:nvPicPr>
        <p:blipFill>
          <a:blip r:embed="rId2"/>
          <a:stretch/>
        </p:blipFill>
        <p:spPr>
          <a:xfrm>
            <a:off x="237960" y="-66600"/>
            <a:ext cx="854568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Object 4"/>
          <p:cNvGraphicFramePr/>
          <p:nvPr/>
        </p:nvGraphicFramePr>
        <p:xfrm>
          <a:off x="1035000" y="2982960"/>
          <a:ext cx="7074000" cy="17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982960"/>
                    <a:ext cx="70740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9:37:08Z</dcterms:created>
  <dc:creator>CARNINO</dc:creator>
  <dc:description/>
  <dc:language>en-US</dc:language>
  <cp:lastModifiedBy>home</cp:lastModifiedBy>
  <dcterms:modified xsi:type="dcterms:W3CDTF">2012-03-05T09:28:20Z</dcterms:modified>
  <cp:revision>25</cp:revision>
  <dc:subject/>
  <dc:title>IAEA SAFETY STANDARDS</dc:title>
</cp:coreProperties>
</file>